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946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20808-4EE3-4392-A017-EDD87DCC546C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Play-do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ssholder for lysbilde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6C2AB-F261-4F6B-8DC7-E9801F2D9FCD}" type="slidenum">
              <a:rPr b="0" lang="nb-N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94E-BE43-4445-8195-8E0CB6A9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3F8-BE72-4012-8951-DC5FA392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859-94BD-42E8-924F-8EB9F78A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0E0-6A65-4624-BA47-3949FF20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34B5-4D21-4304-98D9-CB1E0929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F185-318B-47DC-86F1-F05049F7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F662-E293-42AA-B211-C933C17C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1C66-CB28-4D62-9A85-76829D4F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5EE8-1EE3-4371-9E2F-C22CE31B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654120"/>
            <a:ext cx="822960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9A27-20B6-4159-A374-4D74BACA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6F96-7782-44F6-922F-E6CFEAFF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85A-F2D4-4C3B-9BD4-B0542DA6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0007-FEDC-488F-9A07-B009D908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36DB-1468-4CDE-991B-47F16C2D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C810-A949-49A7-A6BB-1280F20F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DE49-B57D-4C67-B0EC-53A073E5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ABB6-38CC-41D8-8BFB-934E629F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8E9-158D-485D-95D3-692E4830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3A7-6775-49A1-B9DF-883AE0BE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873-4CC1-4500-A7FD-82A4B241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54120"/>
            <a:ext cx="822960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B7C-7F5D-435C-BB55-2C6158C8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826-A589-4388-8189-09690C8A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A65-B4D7-48C4-AEC8-75671185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FBA-03FD-4D48-B411-DA317753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akgrunnsbilde.jpg"/>
          <p:cNvPicPr/>
          <p:nvPr/>
        </p:nvPicPr>
        <p:blipFill>
          <a:blip r:embed="rId2"/>
          <a:stretch/>
        </p:blipFill>
        <p:spPr>
          <a:xfrm>
            <a:off x="5149800" y="2949480"/>
            <a:ext cx="4538880" cy="469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946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7F86D-38C7-4468-AA55-717F56F7C34D}" type="slidenum">
              <a:rPr b="0" lang="nb-NO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akgrunnsbilde.jpg"/>
          <p:cNvPicPr/>
          <p:nvPr/>
        </p:nvPicPr>
        <p:blipFill>
          <a:blip r:embed="rId2"/>
          <a:stretch/>
        </p:blipFill>
        <p:spPr>
          <a:xfrm>
            <a:off x="5149800" y="2949480"/>
            <a:ext cx="4538880" cy="469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kgrunnsbilde.jpg"/>
          <p:cNvPicPr/>
          <p:nvPr/>
        </p:nvPicPr>
        <p:blipFill>
          <a:blip r:embed="rId3"/>
          <a:stretch/>
        </p:blipFill>
        <p:spPr>
          <a:xfrm>
            <a:off x="5149800" y="2949480"/>
            <a:ext cx="4538880" cy="469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Logo_Barnehuset_Oslo.jpg"/>
          <p:cNvPicPr/>
          <p:nvPr/>
        </p:nvPicPr>
        <p:blipFill>
          <a:blip r:embed="rId4"/>
          <a:stretch/>
        </p:blipFill>
        <p:spPr>
          <a:xfrm>
            <a:off x="457200" y="465120"/>
            <a:ext cx="2759040" cy="576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541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946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F30FE-BAE9-4B17-B1B1-C273EBD590A5}" type="slidenum">
              <a:rPr b="0" lang="nb-NO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b9467d"/>
                </a:solidFill>
                <a:latin typeface="Times New Roman"/>
              </a:rPr>
              <a:t>Children’s House Oslo</a:t>
            </a:r>
            <a:br>
              <a:rPr sz="4000"/>
            </a:br>
            <a:r>
              <a:rPr b="1" lang="en-GB" sz="4000" spc="-1" strike="noStrike">
                <a:solidFill>
                  <a:srgbClr val="b9467d"/>
                </a:solidFill>
                <a:latin typeface="Times New Roman"/>
              </a:rPr>
              <a:t>Barnahus</a:t>
            </a:r>
            <a:endParaRPr b="0" lang="en-US" sz="40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040" y="3824280"/>
            <a:ext cx="64008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Times New Roman"/>
              </a:rPr>
              <a:t>Justice for children 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Times New Roman"/>
              </a:rPr>
              <a:t>Vulnerable as witnesses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59595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300"/>
            </a:br>
            <a:endParaRPr b="0" lang="en-US" sz="13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5" name="TekstSylinder 1"/>
          <p:cNvSpPr/>
          <p:nvPr/>
        </p:nvSpPr>
        <p:spPr>
          <a:xfrm>
            <a:off x="2541240" y="544356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Astrid Johanne Petter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Executive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kstSylinder 2"/>
          <p:cNvSpPr/>
          <p:nvPr/>
        </p:nvSpPr>
        <p:spPr>
          <a:xfrm>
            <a:off x="5447880" y="6226200"/>
            <a:ext cx="221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http://www.statensbarnehus.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Legislation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9212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New criminal code has made all forms of violence against children forbidden, also including slapping and smacking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Sentencing framework for domestic abuse has increased from three to six year and for cruel and abusive treatment from six to fifteen year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A new legislation  ensure that all children receives the services the Children’s Houses provide 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371680" y="4599000"/>
            <a:ext cx="2743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4400" spc="-1" strike="noStrike">
                <a:solidFill>
                  <a:srgbClr val="b9467d"/>
                </a:solidFill>
                <a:latin typeface="Times New Roman"/>
              </a:rPr>
              <a:t>What´s new?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29248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Judge no longer part of the interview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Facilitated interview  is led by prosecution lawyer(police lawyer)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New differentiated deadline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Sequencial interview of pre-school children age 3-6 year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Sequencial interview of vulnerable adult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Suplementary interviews – more than one is possible (contradiction)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Target group expanded – vulnerable adults and youth 16-18yrs (incest cases)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Children’s House professionals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921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Give guidance and advice to the police in advance, during and after the  forensic interview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Meet with children (and their guardians) and ensure they feel safe when they come to the Children’s House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Participate in the meeting and discussion before and in breaks, as well as be present during forensic interview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Assess treatment requirements, either short term at the Children’s House or long term in Child Guidance Clinics 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Takes care of the children and adolescents in breaks during the interview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3200" spc="-1" strike="noStrike">
                <a:solidFill>
                  <a:srgbClr val="b9467d"/>
                </a:solidFill>
                <a:latin typeface="Times New Roman"/>
              </a:rPr>
              <a:t>Continued</a:t>
            </a:r>
            <a:endParaRPr b="0" lang="en-US" sz="32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9212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Provides guidance and advice to the child’s caretaker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The staff is recruited from both child welfare, health and police and they are well educated and experienced  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In contrast to many children’s houses around the world, the houses in Norway focus equally on sexual abuse and psychical violence/ children exposed to psychological violence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Legal or Child protective perspective? Focus on establishing safe routines and cooperation which work independent of criminal standard of evidence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“</a:t>
            </a: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My teeth are shaking and </a:t>
            </a:r>
            <a:br>
              <a:rPr sz="4400"/>
            </a:b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I don’t want to talk about it”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45920" y="6427800"/>
            <a:ext cx="56084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Times New Roman"/>
              </a:rPr>
              <a:t>Figure made by boy age 8 – witness to murder</a:t>
            </a:r>
            <a:endParaRPr b="0" lang="en-US" sz="1600" spc="-1" strike="noStrike">
              <a:solidFill>
                <a:srgbClr val="595959"/>
              </a:solidFill>
              <a:latin typeface="Times New Roman"/>
            </a:endParaRPr>
          </a:p>
        </p:txBody>
      </p:sp>
      <p:pic>
        <p:nvPicPr>
          <p:cNvPr id="144" name="Picture 4" descr="\\ADMAVD01A\sst034\PRIVAT\Mine bilder\Rs figur 4.JPG"/>
          <p:cNvPicPr/>
          <p:nvPr/>
        </p:nvPicPr>
        <p:blipFill>
          <a:blip r:embed="rId1"/>
          <a:stretch/>
        </p:blipFill>
        <p:spPr>
          <a:xfrm>
            <a:off x="1646280" y="2187720"/>
            <a:ext cx="56084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4400" spc="-1" strike="noStrike">
                <a:solidFill>
                  <a:srgbClr val="b9467d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92120"/>
            <a:ext cx="8229600" cy="41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Growing concerns for the legal protection of abused children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Unsatisfactory work in the child abuse cases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Few reports to the police, and few cases through the judical system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Adjustment to the Convention on the rights of the Children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329040" indent="-329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127160"/>
            <a:ext cx="6041880" cy="24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b9467d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b9467d"/>
                </a:solidFill>
                <a:latin typeface="Times New Roman"/>
              </a:rPr>
              <a:t>esult</a:t>
            </a:r>
            <a:br>
              <a:rPr sz="3600"/>
            </a:b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Action Plan Against Domestic Violence </a:t>
            </a:r>
            <a:br>
              <a:rPr sz="2400"/>
            </a:b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2008 – 2011</a:t>
            </a:r>
            <a:br>
              <a:rPr sz="2400"/>
            </a:b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“Turning Point”</a:t>
            </a:r>
            <a:br>
              <a:rPr sz="3200"/>
            </a:b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Ministry of Justice and the Police</a:t>
            </a:r>
            <a:r>
              <a:rPr b="0" lang="en-GB" sz="3200" spc="-1" strike="noStrike">
                <a:solidFill>
                  <a:srgbClr val="59595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b9467d"/>
              </a:solidFill>
              <a:latin typeface="Times New Roman"/>
            </a:endParaRPr>
          </a:p>
        </p:txBody>
      </p:sp>
      <p:pic>
        <p:nvPicPr>
          <p:cNvPr id="101" name="Bilde 3" descr="Unknown.jpeg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2746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3544920"/>
            <a:ext cx="7985160" cy="26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Children’s House – Barnehu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595959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A nationwide service in all regions. 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595959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Providing a comprehensive service for victims of abuse.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595959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Combining services such as forensic interviews, medical examinations, treatment and follow-up for children and families – all in one place.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buClr>
                <a:srgbClr val="595959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New report</a:t>
            </a:r>
            <a:r>
              <a:rPr b="0" lang="en-GB" sz="2000" spc="-1" strike="noStrike">
                <a:solidFill>
                  <a:srgbClr val="595959"/>
                </a:solidFill>
                <a:latin typeface="Times New Roman"/>
              </a:rPr>
              <a:t>, - "A good childhood lasts a lifetime". Action plan to combat violence and sexual abuse against children and youth (2014–2017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29212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90720" y="2438280"/>
          <a:ext cx="2743200" cy="175284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Facilitated interviews and police intervie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657600" y="2438280"/>
          <a:ext cx="2362320" cy="175284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Medical examin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019920" y="2438280"/>
          <a:ext cx="2590560" cy="175284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Treatment  and/ or referral to treatment outside the Barneh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90720" y="4191120"/>
          <a:ext cx="2666880" cy="251460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Advices and guidance to children and caretak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657600" y="4191120"/>
          <a:ext cx="2514600" cy="25146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building and guidance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other profesio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019920" y="4191120"/>
          <a:ext cx="2590560" cy="25146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幼圆"/>
                        </a:rPr>
                        <a:t>Networking, coordination and co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sp>
        <p:nvSpPr>
          <p:cNvPr id="112" name="AutoShape 5"/>
          <p:cNvSpPr/>
          <p:nvPr/>
        </p:nvSpPr>
        <p:spPr>
          <a:xfrm>
            <a:off x="990720" y="0"/>
            <a:ext cx="7619760" cy="2438280"/>
          </a:xfrm>
          <a:prstGeom prst="triangle">
            <a:avLst>
              <a:gd name="adj" fmla="val 50000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4"/>
          <p:cNvSpPr/>
          <p:nvPr/>
        </p:nvSpPr>
        <p:spPr>
          <a:xfrm>
            <a:off x="83808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arnehuset</a:t>
            </a:r>
            <a:r>
              <a:rPr b="0" lang="nb-NO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Target group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64800"/>
            <a:ext cx="8229600" cy="46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92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Children and adolescents  from 3 years to 16 years, some cases up to 18 years old 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Vulnerable adults 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Individuals potentially exposed to: </a:t>
            </a:r>
            <a:r>
              <a:rPr b="0" i="1" lang="en-GB" sz="2200" spc="-1" strike="noStrike">
                <a:solidFill>
                  <a:srgbClr val="595959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595959"/>
                </a:solidFill>
                <a:latin typeface="Times New Roman"/>
              </a:rPr>
              <a:t>cases that have been reported to the police, as part of investigation</a:t>
            </a:r>
            <a:r>
              <a:rPr b="0" i="1" lang="en-GB" sz="2200" spc="-1" strike="noStrike">
                <a:solidFill>
                  <a:srgbClr val="59595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595959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595959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Sexual abuse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595959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Violence and assault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Witness to violence or sexual abuse/assault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Harmful Sexual Behavior (HSB)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Sexual mutilation 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Times New Roman"/>
              </a:rPr>
              <a:t>Forced marriages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800" spc="-1" strike="noStrike">
                <a:solidFill>
                  <a:srgbClr val="595959"/>
                </a:solidFill>
                <a:latin typeface="Times New Roman"/>
              </a:rPr>
              <a:t>Traficiking and exploitation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lvl="1" marL="977400" indent="-271440">
              <a:lnSpc>
                <a:spcPct val="60000"/>
              </a:lnSpc>
              <a:spcBef>
                <a:spcPts val="499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Statens Barnehus in Norway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9212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Nationwide – 11 Children’s Houses opened since 2007 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Governmentally financed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It’s a collaborative project involving three departments: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The Ministry of Justice and the Police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The Ministry of Health and Care Services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f3c64"/>
              </a:buClr>
              <a:buSzPct val="90000"/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Times New Roman"/>
              </a:rPr>
              <a:t>The Ministry of Children, Equality and Social Inclusion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b9467d"/>
                </a:solidFill>
                <a:latin typeface="Times New Roman"/>
              </a:rPr>
              <a:t>Statens Barnehus Oslo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31948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The Children’s House in Oslo was opened 1st of September 2009.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Since then, approximately  7000 children and adolescents have been to forensic interviews here.  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Approximately 1500 children have received medical examinations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595959"/>
                </a:solidFill>
                <a:latin typeface="Times New Roman"/>
              </a:rPr>
              <a:t>The Children’s House in Oslo is organised under the supervision of the Chief of Police in Oslo, anchored in the department of Justice</a:t>
            </a: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3200" spc="-1" strike="noStrike">
                <a:solidFill>
                  <a:srgbClr val="b9467d"/>
                </a:solidFill>
                <a:latin typeface="Times New Roman"/>
              </a:rPr>
              <a:t>Continued</a:t>
            </a:r>
            <a:endParaRPr b="0" lang="en-US" sz="32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292480"/>
            <a:ext cx="8229600" cy="36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The Children’s House Oslo covers Oslo Police District 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Today the Children’s House Oslo has 29. man-year with the following qualifications: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5959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Executive director, </a:t>
            </a:r>
            <a:r>
              <a:rPr b="0" lang="en-US" sz="2000" spc="-1" strike="noStrike">
                <a:solidFill>
                  <a:srgbClr val="595959"/>
                </a:solidFill>
                <a:latin typeface="Times New Roman"/>
              </a:rPr>
              <a:t>psychologist specialists, clinical social workers / child welfare workers, family therapists, psychiatric nurses, technical / ICT, administration/ environmental task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Ullevål University Hospital attends SBO four days a week. Up to 10 children a week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7308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4400" spc="-1" strike="noStrike">
                <a:solidFill>
                  <a:srgbClr val="b9467d"/>
                </a:solidFill>
                <a:latin typeface="Times New Roman"/>
              </a:rPr>
              <a:t>New law, regulations and guidelines</a:t>
            </a:r>
            <a:br>
              <a:rPr sz="4400"/>
            </a:br>
            <a:r>
              <a:rPr b="0" lang="nb-NO" sz="4400" spc="-1" strike="noStrike">
                <a:solidFill>
                  <a:srgbClr val="b9467d"/>
                </a:solidFill>
                <a:latin typeface="Times New Roman"/>
              </a:rPr>
              <a:t>from 2015 and 2016</a:t>
            </a:r>
            <a:endParaRPr b="0" lang="en-US" sz="4400" spc="-1" strike="noStrike">
              <a:solidFill>
                <a:srgbClr val="b9467d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86516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92120"/>
            <a:ext cx="82296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Interviews are to be done quickly. Must be coordinated and planned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Facilitated for better collaboration between the Police and the Child Care Service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Two tracks: Police investigation and Child Care Services survey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000" spc="-1" strike="noStrike">
                <a:solidFill>
                  <a:srgbClr val="595959"/>
                </a:solidFill>
                <a:latin typeface="Times New Roman"/>
              </a:rPr>
              <a:t>Good </a:t>
            </a:r>
            <a:r>
              <a:rPr b="0" lang="en-US" sz="2000" spc="-1" strike="noStrike">
                <a:solidFill>
                  <a:srgbClr val="595959"/>
                </a:solidFill>
                <a:latin typeface="Times New Roman"/>
              </a:rPr>
              <a:t>cooperation and communication is totally necessary for success in combating  exploitation, violence and sexual abuse of children and vulnerable adult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33:17Z</dcterms:created>
  <dc:creator>Kerber Kerberian</dc:creator>
  <dc:description/>
  <dc:language>en-US</dc:language>
  <cp:lastModifiedBy>Astrid Johanne Pettersen</cp:lastModifiedBy>
  <cp:lastPrinted>2016-10-06T13:57:59Z</cp:lastPrinted>
  <dcterms:modified xsi:type="dcterms:W3CDTF">2018-05-29T10:49:57Z</dcterms:modified>
  <cp:revision>56</cp:revision>
  <dc:subject/>
  <dc:title>Slide 1</dc:title>
</cp:coreProperties>
</file>