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946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C9D70-21FE-4AEF-9A5C-731A4FEEFE63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Play-d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ssholder for lysbil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330AC-6F40-48F5-B855-F4E549B07C8F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79E-98B3-4044-9F2D-1536D633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E61-A92F-4E0D-A00A-AB13B758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7A3-E96D-4905-B29D-CA6B8F25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EA1-83AC-41C5-97A4-4AD03488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FD6-1C3E-4185-B693-21CFCBBE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AA2E-6994-4437-B1C8-87557E44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CD76-3D48-493C-9ED7-AFD18AD4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1701-83B6-4269-9C45-77B88B96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D79B-4EC2-4DA3-85DF-5EE7EE39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54120"/>
            <a:ext cx="822960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AEC-2938-4D54-BA5F-9FB24443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44CE-C9E9-4610-BE0D-3205425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156-F78A-429C-9D18-35986E37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E709-7098-4EC8-BD08-0ED8E83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5B7E-CCF3-4903-88B2-DF89634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FC68-F915-4C00-BB5F-FD8D10E6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610A-0C95-42B9-A701-9B2F8A5E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8F9F-AFE2-44AB-B81A-DFDF6705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F33-E39C-4698-8757-7CC0B8BC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A8D-E971-4D9F-BAC0-97961D3D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4CB-54B3-4E96-9BC3-E0CA3B05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54120"/>
            <a:ext cx="822960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E35-E10D-4F01-A4E8-85F1CA4E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1B9-FCC5-4519-B697-391F2FF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704-AE2D-419C-A5BA-93B8F6A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455-8E39-4AC5-AF52-7D6D1E3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kgrunnsbilde.jpg"/>
          <p:cNvPicPr/>
          <p:nvPr/>
        </p:nvPicPr>
        <p:blipFill>
          <a:blip r:embed="rId2"/>
          <a:stretch/>
        </p:blipFill>
        <p:spPr>
          <a:xfrm>
            <a:off x="5149800" y="2949480"/>
            <a:ext cx="4538880" cy="469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946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AA31A-13D7-41FE-8586-E732770FAE09}" type="slidenum"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akgrunnsbilde.jpg"/>
          <p:cNvPicPr/>
          <p:nvPr/>
        </p:nvPicPr>
        <p:blipFill>
          <a:blip r:embed="rId2"/>
          <a:stretch/>
        </p:blipFill>
        <p:spPr>
          <a:xfrm>
            <a:off x="5149800" y="2949480"/>
            <a:ext cx="4538880" cy="469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kgrunnsbilde.jpg"/>
          <p:cNvPicPr/>
          <p:nvPr/>
        </p:nvPicPr>
        <p:blipFill>
          <a:blip r:embed="rId3"/>
          <a:stretch/>
        </p:blipFill>
        <p:spPr>
          <a:xfrm>
            <a:off x="5149800" y="2949480"/>
            <a:ext cx="4538880" cy="469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ogo_Barnehuset_Oslo.jpg"/>
          <p:cNvPicPr/>
          <p:nvPr/>
        </p:nvPicPr>
        <p:blipFill>
          <a:blip r:embed="rId4"/>
          <a:stretch/>
        </p:blipFill>
        <p:spPr>
          <a:xfrm>
            <a:off x="457200" y="465120"/>
            <a:ext cx="2759040" cy="576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946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DE908-CD91-4060-AE3C-091BAAF3A88C}" type="slidenum"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b9467d"/>
                </a:solidFill>
                <a:latin typeface="Times New Roman"/>
              </a:rPr>
              <a:t>Children’s House Oslo</a:t>
            </a:r>
            <a:br>
              <a:rPr sz="4000"/>
            </a:br>
            <a:r>
              <a:rPr b="1" lang="en-GB" sz="4000" spc="-1" strike="noStrike">
                <a:solidFill>
                  <a:srgbClr val="b9467d"/>
                </a:solidFill>
                <a:latin typeface="Times New Roman"/>
              </a:rPr>
              <a:t>Barnahus</a:t>
            </a:r>
            <a:endParaRPr b="0" lang="en-US" sz="40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040" y="3824280"/>
            <a:ext cx="6400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Times New Roman"/>
              </a:rPr>
              <a:t>Justice for children 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Times New Roman"/>
              </a:rPr>
              <a:t>Vulnerable as witnesse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59595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endParaRPr b="0" lang="en-US" sz="13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5" name="TekstSylinder 1"/>
          <p:cNvSpPr/>
          <p:nvPr/>
        </p:nvSpPr>
        <p:spPr>
          <a:xfrm>
            <a:off x="2541240" y="544356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Astrid Johanne Petter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Sylinder 2"/>
          <p:cNvSpPr/>
          <p:nvPr/>
        </p:nvSpPr>
        <p:spPr>
          <a:xfrm>
            <a:off x="5447880" y="6226200"/>
            <a:ext cx="221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http://www.statensbarnehus.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Legislation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New criminal code has made all forms of violence against children forbidden, also including slapping and smacking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entencing framework for domestic abuse has increased from three to six year and for cruel and abusive treatment from six to fifteen year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A new legislation  ensure that all children receives the services the Children’s Houses provide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371680" y="4599000"/>
            <a:ext cx="2743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What´s new?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9248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Judge no longer part of the interview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Facilitated interview  is led by prosecution lawyer(police lawyer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New differentiated deadline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equencial interview of pre-school children age 3-6 year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equencial interview of vulnerable adult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uplementary interviews – more than one is possible (contradiction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arget group expanded – vulnerable adults and youth 16-18yrs (incest cases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Children’s House professionals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921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Give guidance and advice to the police in advance, during and after the  forensic interview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Meet with children (and their guardians) and ensure they feel safe when they come to the Children’s House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Participate in the meeting and discussion before and in breaks, as well as be present during forensic interview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Assess treatment requirements, either short term at the Children’s House or long term in Child Guidance Clinics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Takes care of the children and adolescents in breaks during the interview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3200" spc="-1" strike="noStrike">
                <a:solidFill>
                  <a:srgbClr val="b9467d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Provides guidance and advice to the child’s caretaker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The staff is recruited from both child welfare, health and police and they are well educated and experienced 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In contrast to many children’s houses around the world, the houses in Norway focus equally on sexual abuse and psychical violence/ children exposed to psychological violence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Legal or Child protective perspective? Focus on establishing safe routines and cooperation which work independent of criminal standard of evidence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“</a:t>
            </a: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My teeth are shaking and </a:t>
            </a:r>
            <a:br>
              <a:rPr sz="4400"/>
            </a:b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I don’t want to talk about it”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45920" y="6427800"/>
            <a:ext cx="56084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Times New Roman"/>
              </a:rPr>
              <a:t>Figure made by boy age 8 – witness to murder</a:t>
            </a:r>
            <a:endParaRPr b="0" lang="en-US" sz="16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144" name="Picture 4" descr="\\ADMAVD01A\sst034\PRIVAT\Mine bilder\Rs figur 4.JPG"/>
          <p:cNvPicPr/>
          <p:nvPr/>
        </p:nvPicPr>
        <p:blipFill>
          <a:blip r:embed="rId1"/>
          <a:stretch/>
        </p:blipFill>
        <p:spPr>
          <a:xfrm>
            <a:off x="1646280" y="2187720"/>
            <a:ext cx="56084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92120"/>
            <a:ext cx="82296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Growing concerns for the legal protection of abused children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Unsatisfactory work in the child abuse case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Few reports to the police, and few cases through the judical system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Adjustment to the Convention on the rights of the Children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127160"/>
            <a:ext cx="604188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b9467d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b9467d"/>
                </a:solidFill>
                <a:latin typeface="Times New Roman"/>
              </a:rPr>
              <a:t>esult</a:t>
            </a:r>
            <a:br>
              <a:rPr sz="36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Action Plan Against Domestic Violence </a:t>
            </a:r>
            <a:br>
              <a:rPr sz="24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2008 – 2011</a:t>
            </a:r>
            <a:br>
              <a:rPr sz="24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“Turning Point”</a:t>
            </a:r>
            <a:br>
              <a:rPr sz="32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Ministry of Justice and the Police</a:t>
            </a:r>
            <a:r>
              <a:rPr b="0" lang="en-GB" sz="32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b9467d"/>
              </a:solidFill>
              <a:latin typeface="Times New Roman"/>
            </a:endParaRPr>
          </a:p>
        </p:txBody>
      </p:sp>
      <p:pic>
        <p:nvPicPr>
          <p:cNvPr id="101" name="Bilde 3" descr="Unknown.jpeg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2746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544920"/>
            <a:ext cx="798516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Children’s House – Barnehu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A nationwide service in all regions.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Providing a comprehensive service for victims of abuse.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Combining services such as forensic interviews, medical examinations, treatment and follow-up for children and families – all in one place.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New report</a:t>
            </a: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, - "A good childhood lasts a lifetime". Action plan to combat violence and sexual abuse against children and youth (2014–2017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2438280"/>
          <a:ext cx="2743200" cy="17528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Facilitated interviews and police intervi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657600" y="2438280"/>
          <a:ext cx="2362320" cy="175284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Medical exam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19920" y="2438280"/>
          <a:ext cx="2590560" cy="175284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Treatment  and/ or referral to treatment outside the Barneh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90720" y="4191120"/>
          <a:ext cx="2666880" cy="251460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Advices and guidance to children and caretak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657600" y="4191120"/>
          <a:ext cx="2514600" cy="25146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building and guidance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other profesio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19920" y="4191120"/>
          <a:ext cx="2590560" cy="25146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Networking, coordination and co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sp>
        <p:nvSpPr>
          <p:cNvPr id="112" name="AutoShape 5"/>
          <p:cNvSpPr/>
          <p:nvPr/>
        </p:nvSpPr>
        <p:spPr>
          <a:xfrm>
            <a:off x="990720" y="0"/>
            <a:ext cx="7619760" cy="2438280"/>
          </a:xfrm>
          <a:prstGeom prst="triangle">
            <a:avLst>
              <a:gd name="adj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4"/>
          <p:cNvSpPr/>
          <p:nvPr/>
        </p:nvSpPr>
        <p:spPr>
          <a:xfrm>
            <a:off x="83808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arnehuset</a:t>
            </a:r>
            <a:r>
              <a:rPr b="0" lang="nb-NO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Target group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64800"/>
            <a:ext cx="822960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92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Children and adolescents  from 3 years to 16 years, some cases up to 18 years old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Vulnerable adults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Individuals potentially exposed to: </a:t>
            </a:r>
            <a:r>
              <a:rPr b="0" i="1" lang="en-GB" sz="2200" spc="-1" strike="noStrike">
                <a:solidFill>
                  <a:srgbClr val="595959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595959"/>
                </a:solidFill>
                <a:latin typeface="Times New Roman"/>
              </a:rPr>
              <a:t>cases that have been reported to the police, as part of investigation</a:t>
            </a:r>
            <a:r>
              <a:rPr b="0" i="1" lang="en-GB" sz="2200" spc="-1" strike="noStrike">
                <a:solidFill>
                  <a:srgbClr val="59595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595959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Sexual abuse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595959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Violence and assault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Witness to violence or sexual abuse/assault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Harmful Sexual Behavior (HSB)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Sexual mutilation 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Forced marriages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Times New Roman"/>
              </a:rPr>
              <a:t>Traficiking and exploitation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Statens Barnehus in Norway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Nationwide – 11 Children’s Houses opened since 2007 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Governmentally financed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It’s a collaborative project involving three departments: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The Ministry of Justice and the Police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The Ministry of Health and Care Service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The Ministry of Children, Equality and Social Inclusion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Statens Barnehus Oslo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31948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The Children’s House in Oslo was opened 1st of September 2009.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Since then, approximately  7000 children and adolescents have been to forensic interviews here.  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Approximately 1500 children have received medical examination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The Children’s House in Oslo is organised under the supervision of the Chief of Police in Oslo, anchored in the department of Justice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3200" spc="-1" strike="noStrike">
                <a:solidFill>
                  <a:srgbClr val="b9467d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292480"/>
            <a:ext cx="8229600" cy="36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he Children’s House Oslo covers Oslo Police District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oday the Children’s House Oslo has 29. man-year with the following qualifications: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5959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Executive director, </a:t>
            </a:r>
            <a:r>
              <a:rPr b="0" lang="en-US" sz="2000" spc="-1" strike="noStrike">
                <a:solidFill>
                  <a:srgbClr val="595959"/>
                </a:solidFill>
                <a:latin typeface="Times New Roman"/>
              </a:rPr>
              <a:t>psychologist specialists, clinical social workers / child welfare workers, family therapists, psychiatric nurses, technical / ICT, administration/ environmental task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Ullevål University Hospital attends SBO four days a week. Up to 10 children a week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New law, regulations and guidelines</a:t>
            </a:r>
            <a:br>
              <a:rPr sz="4400"/>
            </a:b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from 2015 and 2016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9212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Interviews are to be done quickly. Must be coordinated and planned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Facilitated for better collaboration between the Police and the Child Care Service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wo tracks: Police investigation and Child Care Services survey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Good </a:t>
            </a:r>
            <a:r>
              <a:rPr b="0" lang="en-US" sz="2000" spc="-1" strike="noStrike">
                <a:solidFill>
                  <a:srgbClr val="595959"/>
                </a:solidFill>
                <a:latin typeface="Times New Roman"/>
              </a:rPr>
              <a:t>cooperation and communication is totally necessary for success in combating  exploitation, violence and sexual abuse of children and vulnerable adult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33:17Z</dcterms:created>
  <dc:creator>Kerber Kerberian</dc:creator>
  <dc:description/>
  <dc:language>en-US</dc:language>
  <cp:lastModifiedBy>Astrid Johanne Pettersen</cp:lastModifiedBy>
  <cp:lastPrinted>2016-10-06T13:57:59Z</cp:lastPrinted>
  <dcterms:modified xsi:type="dcterms:W3CDTF">2018-05-29T10:49:57Z</dcterms:modified>
  <cp:revision>56</cp:revision>
  <dc:subject/>
  <dc:title>Slide 1</dc:title>
</cp:coreProperties>
</file>