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6.png" ContentType="image/png"/>
  <Override PartName="/ppt/media/image28.jpeg" ContentType="image/jpeg"/>
  <Override PartName="/ppt/media/image7.jpeg" ContentType="image/jpeg"/>
  <Override PartName="/ppt/media/image31.wmf" ContentType="image/x-wmf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30.wmf" ContentType="image/x-wmf"/>
  <Override PartName="/ppt/media/image27.png" ContentType="image/png"/>
  <Override PartName="/ppt/media/image13.jpeg" ContentType="image/jpeg"/>
  <Override PartName="/ppt/media/image11.jpeg" ContentType="image/jpeg"/>
  <Override PartName="/ppt/media/image32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70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6"/>
          </p:nvPr>
        </p:nvSpPr>
        <p:spPr>
          <a:xfrm>
            <a:off x="377820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7"/>
          </p:nvPr>
        </p:nvSpPr>
        <p:spPr>
          <a:xfrm>
            <a:off x="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8"/>
          </p:nvPr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E37C1C-DEFE-4D62-995B-F5B946A75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Slippe å møte gjerningspersoner (nære relasjo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Flere år før saken kommer opp – barnet husker ikke like go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ssholder for lysbildenummer 3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7A63CE-94F4-41DF-8E81-C33D9484D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views of children used to be lead by a judge – now police lawy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ice lawyer must lead the interview objective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way is a civil law country – criminal investigation and proceedings are not a parts process.  In 2013 the legislator decided to codify the prosecution authorities' duty to objectivity, new section 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ssholder for lysbildenummer 3"/>
          <p:cNvSpPr/>
          <p:nvPr/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0279DE-9E24-4E6C-BCCB-D9C3F07A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F59B-365C-4D93-9B91-5F1ECD6D8F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DEEE-081D-4D17-B749-7ABA55C4AF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D285-00FD-42B3-A866-63771BBB2C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6A1C-A9B9-4E5C-B3A1-4D80986CA6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2220-0CB6-4440-BD98-68BA54E763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4744-AFEF-448D-816A-18E22D3296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17CB-DB5C-46F4-84DA-1C21E873B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917B-6778-4034-B2C9-B6D6D29E79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5A98-CED3-4BB7-A552-EF65462927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E2DC-4AF3-4A32-B9C0-E1B807B00B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8753-CA52-4503-9B26-0E9FE427F1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13B8-86E0-4C2B-8D0F-99E68319AC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7BCE-5283-4920-A839-CD9B89EFBE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5FE5-A582-4B96-A2BF-11B7811E08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5C5D-6C99-4534-93DC-7FCEEE624D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21EB-6217-4FE5-ADE5-2518E5E04D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FBDF-DF96-4706-8FAE-CA3847D6C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75D0-404F-4C0F-A972-5C854C6809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D289-6171-445F-A135-3858462E2B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6460-11F1-4B7D-97B0-8F4222297C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9D70-9F9F-433E-B796-D7A8C21495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1B3E-7060-484D-B060-EC80FBB503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4D75-E294-47AE-B672-39F7194034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471D-BE54-4C59-84F0-5A799D36CC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2FA-A6EF-4101-B736-6F8C9D704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305-A23E-49D8-96AC-8F26F4D79C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03D-F21D-434B-9F15-E34EB38985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E15-180F-4541-8A80-0FF2BF3F91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1C2-75F5-48C0-874C-CA704022A3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42B-43B9-47B6-90B6-240C897CB85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F4E-2A2C-4805-A4D6-C6F2991105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5B3-F015-4F2E-8F36-DDC45DA6160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18C-116B-44E8-B5CE-A68788FB3E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8E6-0355-4ED3-992B-35C5DDD540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4AD-9BBD-4311-8278-1BE315FFD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66C-3063-4699-8A25-777E8A07A3D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3B02C-EFCD-4AD7-AECF-053BC47089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4E54F-8A48-4C96-98B9-E622146B680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255BB-CB90-4BE6-A2F9-C5C6ECE4C31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1D776-6A0F-4D64-A1C5-9B92EF3915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D70E6-89C1-49BB-818D-CF5E8E33C1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86722-DE34-422B-8316-50DE302887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E7070-FC70-4FB6-ACE4-602C87397B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513B9-C8F1-497D-8FA9-BD55AC623C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F87CC-58C5-4D2F-AA80-6AC237726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EE240-70FC-464D-BCFB-E0B6B12F55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D311C-444B-4F3C-920A-5E0A7D5277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7A774-ED0B-490D-951B-86C5383845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95468-5B3B-4733-AC8B-59937846342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FF405-6082-4A05-ABEA-3F9699F9CC4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9D929-5BB2-437A-82D2-3EF0634B45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64899-6A11-4827-808B-B4E51CB7101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7D5F7-4639-4098-8035-21AC3FC7A30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22200" y="1801440"/>
            <a:ext cx="849312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748F3-CF29-47F0-8295-D7D5F35116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60D10-2C09-4D65-8985-7ECD0C8EB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5591E-B352-4C5F-ADD7-1721BE22B2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436A0-8919-45A4-A6F3-8465F2294A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8A49D-83EE-47DB-A4F2-FBA377161C4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6400" y="443592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C4BC5-AE26-4219-BC20-B4D5AF2EE8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500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8160" y="238284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2184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500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8160" y="4435920"/>
            <a:ext cx="27360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CA1D9-AFAB-4E76-B8C3-9A468DD57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184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2382840"/>
            <a:ext cx="41468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1840" y="4435920"/>
            <a:ext cx="849780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0275EA-4D38-4771-8A27-442B4BE767EF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7F1CC3FA-27F9-414F-832F-209CFDD01E00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7120ED-7C30-4937-A5E7-BCE3F2DCF3D8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393A98D4-E185-4FE1-8383-3299341BED36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POD_powerpoint_RGB_forsidebilde"/>
          <p:cNvPicPr/>
          <p:nvPr/>
        </p:nvPicPr>
        <p:blipFill>
          <a:blip r:embed="rId2"/>
          <a:stretch/>
        </p:blipFill>
        <p:spPr>
          <a:xfrm>
            <a:off x="-1440" y="1457280"/>
            <a:ext cx="8820000" cy="485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POD_powerpoint_RGB_STRIPE"/>
          <p:cNvPicPr/>
          <p:nvPr/>
        </p:nvPicPr>
        <p:blipFill>
          <a:blip r:embed="rId3"/>
          <a:stretch/>
        </p:blipFill>
        <p:spPr>
          <a:xfrm>
            <a:off x="-1440" y="1301760"/>
            <a:ext cx="8821440" cy="1587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6838920" y="1104840"/>
            <a:ext cx="198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nb-NO" sz="700" spc="-1" strike="noStrike">
                <a:solidFill>
                  <a:srgbClr val="000000"/>
                </a:solidFill>
                <a:latin typeface="Arial"/>
              </a:rPr>
              <a:t>OSLO POLICE DISTRIC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5" descr="Pol_Oslo_logo_sort"/>
          <p:cNvPicPr/>
          <p:nvPr/>
        </p:nvPicPr>
        <p:blipFill>
          <a:blip r:embed="rId4"/>
          <a:stretch/>
        </p:blipFill>
        <p:spPr>
          <a:xfrm>
            <a:off x="320760" y="325440"/>
            <a:ext cx="2098440" cy="563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POD_powerpoint_RGB_STRIPE"/>
          <p:cNvPicPr/>
          <p:nvPr/>
        </p:nvPicPr>
        <p:blipFill>
          <a:blip r:embed="rId2"/>
          <a:stretch/>
        </p:blipFill>
        <p:spPr>
          <a:xfrm>
            <a:off x="-1440" y="1301760"/>
            <a:ext cx="8821440" cy="158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838920" y="1104840"/>
            <a:ext cx="198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nb-NO" sz="700" spc="-1" strike="noStrike">
                <a:solidFill>
                  <a:srgbClr val="000000"/>
                </a:solidFill>
                <a:latin typeface="Arial"/>
              </a:rPr>
              <a:t>OSLO POLICE DISTRIC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22200" y="6534000"/>
            <a:ext cx="84931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7" descr="Pol_Oslo_logo_sort"/>
          <p:cNvPicPr/>
          <p:nvPr/>
        </p:nvPicPr>
        <p:blipFill>
          <a:blip r:embed="rId3"/>
          <a:stretch/>
        </p:blipFill>
        <p:spPr>
          <a:xfrm>
            <a:off x="320760" y="325440"/>
            <a:ext cx="2098440" cy="563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3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A77C1E-A219-4EB2-B936-3E8E18D286E1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EF9FC107-F8D3-4EE5-95B4-66F515297ACF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POD_powerpoint_RGB_STRIPE"/>
          <p:cNvPicPr/>
          <p:nvPr/>
        </p:nvPicPr>
        <p:blipFill>
          <a:blip r:embed="rId2"/>
          <a:stretch/>
        </p:blipFill>
        <p:spPr>
          <a:xfrm>
            <a:off x="-1440" y="1301760"/>
            <a:ext cx="8821440" cy="1587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6838920" y="1104840"/>
            <a:ext cx="198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nb-NO" sz="700" spc="-1" strike="noStrike">
                <a:solidFill>
                  <a:srgbClr val="000000"/>
                </a:solidFill>
                <a:latin typeface="Arial"/>
              </a:rPr>
              <a:t>OSLO POLICE DISTRIC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322200" y="6534000"/>
            <a:ext cx="84931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ol_Oslo_logo_sort"/>
          <p:cNvPicPr/>
          <p:nvPr/>
        </p:nvPicPr>
        <p:blipFill>
          <a:blip r:embed="rId3"/>
          <a:stretch/>
        </p:blipFill>
        <p:spPr>
          <a:xfrm>
            <a:off x="320760" y="325440"/>
            <a:ext cx="2098440" cy="5634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080" indent="-1616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FD972F-EFFC-4CA0-B34E-36628F64E905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93E7214C-246F-40E9-9E3F-346E983DDCAE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POD_powerpoint_RGB_STRIPE"/>
          <p:cNvPicPr/>
          <p:nvPr/>
        </p:nvPicPr>
        <p:blipFill>
          <a:blip r:embed="rId2"/>
          <a:stretch/>
        </p:blipFill>
        <p:spPr>
          <a:xfrm>
            <a:off x="-1440" y="1301760"/>
            <a:ext cx="8821440" cy="158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9"/>
          <p:cNvSpPr/>
          <p:nvPr/>
        </p:nvSpPr>
        <p:spPr>
          <a:xfrm>
            <a:off x="6838920" y="1104840"/>
            <a:ext cx="198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nb-NO" sz="700" spc="-1" strike="noStrike">
                <a:solidFill>
                  <a:srgbClr val="000000"/>
                </a:solidFill>
                <a:latin typeface="Arial"/>
              </a:rPr>
              <a:t>OSLO POLICE DISTRIC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22200" y="6534000"/>
            <a:ext cx="84931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Pol_Oslo_logo_sort"/>
          <p:cNvPicPr/>
          <p:nvPr/>
        </p:nvPicPr>
        <p:blipFill>
          <a:blip r:embed="rId3"/>
          <a:stretch/>
        </p:blipFill>
        <p:spPr>
          <a:xfrm>
            <a:off x="320760" y="325440"/>
            <a:ext cx="2098440" cy="5634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0400" indent="-16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5840" indent="-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7106760" y="6573600"/>
            <a:ext cx="17082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nb-NO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781E09-5D6C-4FDA-80DF-367E8F54D6EC}" type="datetime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 • Side </a:t>
            </a:r>
            <a:fld id="{5D02BB64-AE57-41D6-A685-BA7363CBF742}" type="slidenum">
              <a:rPr b="0" lang="nb-NO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H_trimmed.wmv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3800" y="2352240"/>
            <a:ext cx="397332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24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200"/>
            </a:br>
            <a:r>
              <a:rPr b="1" lang="nb-NO" sz="2200" spc="-1" strike="noStrike">
                <a:solidFill>
                  <a:srgbClr val="ffffff"/>
                </a:solidFill>
                <a:latin typeface="Verdana"/>
                <a:ea typeface="Arial"/>
              </a:rPr>
              <a:t>Interviewing Children</a:t>
            </a:r>
            <a:br>
              <a:rPr sz="2200"/>
            </a:br>
            <a:r>
              <a:rPr b="1" i="1" lang="nb-NO" sz="1600" spc="-1" strike="noStrike">
                <a:solidFill>
                  <a:srgbClr val="ffffff"/>
                </a:solidFill>
                <a:latin typeface="Verdana"/>
                <a:ea typeface="Arial"/>
              </a:rPr>
              <a:t>Facilitated interview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663800" y="4404960"/>
            <a:ext cx="38019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16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16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nb-NO" sz="1200" spc="-1" strike="noStrike">
                <a:solidFill>
                  <a:srgbClr val="ffffff"/>
                </a:solidFill>
                <a:latin typeface="Verdana"/>
                <a:ea typeface="Arial"/>
              </a:rPr>
              <a:t>Police Superintendent Malin Morin Nymoen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16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nb-NO" sz="1200" spc="-1" strike="noStrike">
                <a:solidFill>
                  <a:srgbClr val="ffffff"/>
                </a:solidFill>
                <a:latin typeface="Verdana"/>
                <a:ea typeface="Arial"/>
              </a:rPr>
              <a:t>Sex Crime Squad/Oslo/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  <a:ea typeface="Verdana"/>
              </a:rPr>
              <a:t>the police lawyer's main responsibilities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: </a:t>
            </a:r>
            <a:br>
              <a:rPr sz="2400"/>
            </a:br>
            <a:br>
              <a:rPr sz="24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1840" y="2924280"/>
            <a:ext cx="849780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Secure the evidence value of the 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Make sure that the suspect’s rights are se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Protect the witness and make sure that they are given their rights according to the la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D28976-DB7A-48D0-AD36-D6CEBEF7EEF9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DD5FD41F-C80E-48A4-A667-12864A42495A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defense lawy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A defence lawyer is normally not present during the first 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Makes it easier to report to the 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Protect the suspect from groundless suspic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To protect the offended in cases where he/she is living together with the susp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Domestic viol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Ince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If someone is charged after the first inter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The person who is charged will immediately be inform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Get to see the first intervie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Can ask for a second interview (within 1 week) where the defence lawyer will b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Supplementary intervie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contradi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Questions must be supplied as part of the reque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56EE31-47E5-489A-A2BD-935FED4F0312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9FF61319-54F3-4916-9EDA-789A234BA2A3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particip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1840" y="2382840"/>
            <a:ext cx="47545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Police law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ounsel for the agreed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ubstitute guar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nter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nvesti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dvisor/psychologist from Children’s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echn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Representatives from Child Welfare Services (if necessa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(Defence law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ssholder for lysbildenumm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2209CD-B18E-4ACC-9383-F08A5B57F37B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0082BF60-BE71-4583-A560-9473929E0FC8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ttp://mikebrandlyauctioneer.files.wordpress.com/2010/02/lotsa-people.jpg"/>
          <p:cNvPicPr/>
          <p:nvPr/>
        </p:nvPicPr>
        <p:blipFill>
          <a:blip r:embed="rId1"/>
          <a:stretch/>
        </p:blipFill>
        <p:spPr>
          <a:xfrm>
            <a:off x="6703920" y="2421000"/>
            <a:ext cx="1619280" cy="1079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C:\Users\hbw003\AppData\Local\Microsoft\Windows\INetCache\Content.Outlook\JAXWIJN9\barnehuset-1 (3).jpg"/>
          <p:cNvPicPr/>
          <p:nvPr/>
        </p:nvPicPr>
        <p:blipFill>
          <a:blip r:embed="rId2"/>
          <a:stretch/>
        </p:blipFill>
        <p:spPr>
          <a:xfrm>
            <a:off x="5724360" y="4262400"/>
            <a:ext cx="29847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 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prepar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1840" y="2382840"/>
            <a:ext cx="74185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87440" indent="-1634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interviewer calls the person who will accompany the interviewee a few days prior to the int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Give information about the interview, the Children's House, the interviewer, agenda, et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Get some information about the interviewee - interests, cognitive development, language skills etc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The child is informed in the evening, the day before the interview is h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Informed by the person who will accompany the interviewee (who is instructed by the interview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You are going to the Children's House tomorrow, to talk with Malin about what happened…”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 interviewer does not meet or talk to the interviewee prior to the 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Just before the interview starts, we have a meeting with the other participants (to discuss the 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 interviewer meets the interviewee and the accompanying person, and show them the facilities and how it works before the interview st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ssholder for lysbildenumm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FB7214-059B-47CF-96E7-65A699CF79E0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489C9A20-8722-49D4-B147-3C7C25510F2F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rma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23640" y="2349000"/>
            <a:ext cx="8497800" cy="39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62000" indent="-162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he interviewee should be informed who is present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nd that the interview is recor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he interviewee is informed about the case and why we would like to do an int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he interviewee is encouraged to tell the tr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ke them seri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over the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i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CAD0AB-1EE7-4086-A120-00BC8E392AFE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425BAC21-A157-48CA-AC50-FDC31A062A3E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IMG_1905"/>
          <p:cNvPicPr/>
          <p:nvPr/>
        </p:nvPicPr>
        <p:blipFill>
          <a:blip r:embed="rId1"/>
          <a:stretch/>
        </p:blipFill>
        <p:spPr>
          <a:xfrm>
            <a:off x="6300720" y="4508640"/>
            <a:ext cx="2370240" cy="1771560"/>
          </a:xfrm>
          <a:prstGeom prst="rect">
            <a:avLst/>
          </a:prstGeom>
          <a:ln w="0">
            <a:noFill/>
          </a:ln>
        </p:spPr>
      </p:pic>
      <p:sp>
        <p:nvSpPr>
          <p:cNvPr id="356" name="Avrundet rektangel 1"/>
          <p:cNvSpPr/>
          <p:nvPr/>
        </p:nvSpPr>
        <p:spPr>
          <a:xfrm>
            <a:off x="395280" y="3716280"/>
            <a:ext cx="4897440" cy="792360"/>
          </a:xfrm>
          <a:prstGeom prst="roundRect">
            <a:avLst>
              <a:gd name="adj" fmla="val 16667"/>
            </a:avLst>
          </a:prstGeom>
          <a:solidFill>
            <a:srgbClr val="c9d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620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he information provided depends on the age and capabilities of the interview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400" spc="-1" strike="noStrike">
                <a:solidFill>
                  <a:srgbClr val="c00000"/>
                </a:solidFill>
                <a:latin typeface="Verdana"/>
                <a:ea typeface="Arial"/>
              </a:rPr>
              <a:t>Dialogical Communication Method</a:t>
            </a:r>
            <a:r>
              <a:rPr b="1" lang="nb-NO" sz="3200" spc="-1" strike="noStrike">
                <a:solidFill>
                  <a:srgbClr val="c00000"/>
                </a:solidFill>
                <a:latin typeface="Verdana"/>
                <a:ea typeface="Arial"/>
              </a:rPr>
              <a:t>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(DC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1840" y="2382840"/>
            <a:ext cx="74185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9280" indent="-3952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interview comprises 7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epa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Building trust ( Waiting ro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ormalities ( Interrogation ro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ase/theme 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Narrative interview- free expla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obing – theme by theme, and confrontations 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in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ssholder for lysbildenumm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9B9E96-DE35-4370-BC4A-F557BEA77771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3CAB03E6-B046-4462-84D9-417DE6C6E654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key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2200" y="2382840"/>
            <a:ext cx="48592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Establish t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pen ended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at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ctive list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ollow up on the child’s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More detailed questions when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f necessary we confront the child in the end (if we don’t ask, we won’t know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952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ssholder for lysbildenumm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F9261C-CBAA-4A20-A93D-142C69F480ED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3FD0456E-FFD1-48C0-96B4-552998700931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30" descr="H:\Dokumenter\foo.png"/>
          <p:cNvPicPr/>
          <p:nvPr/>
        </p:nvPicPr>
        <p:blipFill>
          <a:blip r:embed="rId1"/>
          <a:stretch/>
        </p:blipFill>
        <p:spPr>
          <a:xfrm>
            <a:off x="5580000" y="3141720"/>
            <a:ext cx="31402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22200" y="1801800"/>
            <a:ext cx="8493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Verdana"/>
              </a:rPr>
              <a:t>Facilitated interviews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Verdana"/>
              </a:rPr>
              <a:t>Promotional com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21840" y="2565000"/>
            <a:ext cx="849780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irect, clearly, informativ, inter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 childs language, reduce the balance of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ignificant infor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Be cour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pend ending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eta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ell, describe,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Expand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CF9E5D-1A5D-47BA-81F9-E825AE43A934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815D0603-1AE0-4BBA-B132-CC94EA56DC05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Verdana"/>
              </a:rPr>
              <a:t>Facilitated interviews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Verdana"/>
              </a:rPr>
              <a:t>Inhibitory com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losed ended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eading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evera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Adul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Questioning style/ interro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verhe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udden change of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oubt/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C3E95D-8FBD-4078-8815-0F3F509116F0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5CD22EDA-2662-4003-A340-F23A18F32284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Age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87631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7794BC-3C86-4BF5-90DA-31AD1671AF01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9CEFD27B-87C3-4686-BA2C-1CE73E230F31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\\Client\E$\Sitter i stol.png"/>
          <p:cNvPicPr/>
          <p:nvPr/>
        </p:nvPicPr>
        <p:blipFill>
          <a:blip r:embed="rId1"/>
          <a:stretch/>
        </p:blipFill>
        <p:spPr>
          <a:xfrm>
            <a:off x="324000" y="3046320"/>
            <a:ext cx="4103640" cy="3338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M:\2 Krim\21 Volds- og seksual\210 Felles\Dommeravhør\Tilrettelagte avhør\Bilder\TA sitter på gulvet.png"/>
          <p:cNvPicPr/>
          <p:nvPr/>
        </p:nvPicPr>
        <p:blipFill>
          <a:blip r:embed="rId2"/>
          <a:stretch/>
        </p:blipFill>
        <p:spPr>
          <a:xfrm>
            <a:off x="5580000" y="4025880"/>
            <a:ext cx="2737080" cy="2346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\\Client\E$\Sitter på liten stol.png"/>
          <p:cNvPicPr/>
          <p:nvPr/>
        </p:nvPicPr>
        <p:blipFill>
          <a:blip r:embed="rId3"/>
          <a:stretch/>
        </p:blipFill>
        <p:spPr>
          <a:xfrm>
            <a:off x="5867280" y="1844640"/>
            <a:ext cx="22622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video recording played in cou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urpo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oid children having to meet in court, unless they wan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comply with the principle of hearing both sides, the defence can request a complementary interview prior to the 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cou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cording from the interview is normally played prior to the defendant's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judge and the parties has the full transcript from the interview, and the prosecutor can confront the defendant using details from th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F4A8D6-00D8-4780-B09D-B4CADB227A74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68833540-F6AE-4589-A107-749E8AD9C64C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at to exp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3006720" cy="33494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>
            <a:off x="533520" y="3657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Everyth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at to exp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030" descr="\\krima01a\hbw003\PRIVAT\Fagdag dommeravhør\H_Illustrasjon_utsnit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97360"/>
            <a:ext cx="2916360" cy="31446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533520" y="3733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r noth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Drawing by 8-year old interview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819468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Drawing by 8-year old interviewee(2</a:t>
            </a:r>
            <a:r>
              <a:rPr b="1" lang="nb-NO" sz="2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1252440" cy="4038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2425680" cy="390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cred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304920" y="2438280"/>
            <a:ext cx="83818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e 8-year old who made these drawings was found credible by the court, and the offender was convi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A key objective for recent developments in Norway has been to improve the children’s credi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vrundet rektangel 1"/>
          <p:cNvSpPr/>
          <p:nvPr/>
        </p:nvSpPr>
        <p:spPr>
          <a:xfrm>
            <a:off x="684360" y="4484520"/>
            <a:ext cx="6912000" cy="1752840"/>
          </a:xfrm>
          <a:prstGeom prst="roundRect">
            <a:avLst>
              <a:gd name="adj" fmla="val 16667"/>
            </a:avLst>
          </a:prstGeom>
          <a:solidFill>
            <a:srgbClr val="c9d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Verdana"/>
                <a:ea typeface="Verdana"/>
              </a:rPr>
              <a:t>Recent developments inclu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Improved education of interview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Improved facilities for interviews and medical examin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ontinuous improvements to the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New law - October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493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Interviewing children – </a:t>
            </a:r>
            <a:r>
              <a:rPr b="1" lang="nb-NO" sz="1600" spc="-1" strike="noStrike">
                <a:solidFill>
                  <a:srgbClr val="c00000"/>
                </a:solidFill>
                <a:latin typeface="Verdana"/>
                <a:ea typeface="Arial"/>
              </a:rPr>
              <a:t>cooperation with Children's House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50920" y="2565360"/>
            <a:ext cx="720072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Better prepared and more focused inter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e interviewer can focus at the interview - not the practic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Short term: the child is cared for by professionals after the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63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More detailed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63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trengthens the child's cred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Long term: the child’s welfare is taken care of by 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Sharing of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63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Ex. work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8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Creating a positive experience for the interview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" descr="M:\2 Krim\21 Volds- og seksual\210 Felles\Dommeravhør\Bilder\Hjerte.jpg"/>
          <p:cNvPicPr/>
          <p:nvPr/>
        </p:nvPicPr>
        <p:blipFill>
          <a:blip r:embed="rId1"/>
          <a:stretch/>
        </p:blipFill>
        <p:spPr>
          <a:xfrm>
            <a:off x="6804000" y="4968720"/>
            <a:ext cx="18828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hanne.jpg"/>
          <p:cNvPicPr/>
          <p:nvPr/>
        </p:nvPicPr>
        <p:blipFill>
          <a:blip r:embed="rId1"/>
          <a:stretch/>
        </p:blipFill>
        <p:spPr>
          <a:xfrm>
            <a:off x="0" y="258840"/>
            <a:ext cx="9144000" cy="608472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3"/>
          <p:cNvSpPr/>
          <p:nvPr/>
        </p:nvSpPr>
        <p:spPr>
          <a:xfrm>
            <a:off x="7107120" y="6573960"/>
            <a:ext cx="1708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3C4B4E2D-BFCA-47A8-B061-9E84EFB4B5F3}" type="datetime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 • Side </a:t>
            </a:r>
            <a:fld id="{C4B235D7-12E5-4D0D-9E7C-C0D24B13F2B0}" type="slidenum">
              <a:rPr b="0" lang="nb-NO" sz="7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2236320" y="4591080"/>
            <a:ext cx="5272200" cy="1195200"/>
          </a:xfrm>
          <a:prstGeom prst="rect">
            <a:avLst/>
          </a:prstGeom>
          <a:noFill/>
          <a:ln w="0">
            <a:noFill/>
          </a:ln>
        </p:spPr>
        <p:txBody>
          <a:bodyPr lIns="162000" rIns="162000" tIns="162000" bIns="162000" anchor="t">
            <a:normAutofit/>
          </a:bodyPr>
          <a:p>
            <a:pPr marL="1620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2900" spc="-1" strike="noStrike">
                <a:solidFill>
                  <a:srgbClr val="ffffff"/>
                </a:solidFill>
                <a:latin typeface="Verdana"/>
                <a:ea typeface="Arial"/>
              </a:rPr>
              <a:t>     </a:t>
            </a:r>
            <a:r>
              <a:rPr b="0" lang="nb-NO" sz="2900" spc="-1" strike="noStrike">
                <a:solidFill>
                  <a:srgbClr val="c00000"/>
                </a:solidFill>
                <a:latin typeface="Verdana"/>
                <a:ea typeface="Arial"/>
              </a:rPr>
              <a:t>Care and Jus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ich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ex cr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Genital muti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Mu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erious inj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Domestic vio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Traffi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Robb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ess serious inj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87DD33-1259-49DD-A1C5-7EA63853134E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2D275557-9520-4BBC-BE1E-D7021E89EBBC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Bilde 1" descr=""/>
          <p:cNvPicPr/>
          <p:nvPr/>
        </p:nvPicPr>
        <p:blipFill>
          <a:blip r:embed="rId1"/>
          <a:stretch/>
        </p:blipFill>
        <p:spPr>
          <a:xfrm>
            <a:off x="6659640" y="4129200"/>
            <a:ext cx="2208240" cy="2241360"/>
          </a:xfrm>
          <a:prstGeom prst="rect">
            <a:avLst/>
          </a:prstGeom>
          <a:ln w="0">
            <a:noFill/>
          </a:ln>
        </p:spPr>
      </p:pic>
      <p:pic>
        <p:nvPicPr>
          <p:cNvPr id="305" name="Bilde 4" descr=""/>
          <p:cNvPicPr/>
          <p:nvPr/>
        </p:nvPicPr>
        <p:blipFill>
          <a:blip r:embed="rId2"/>
          <a:stretch/>
        </p:blipFill>
        <p:spPr>
          <a:xfrm>
            <a:off x="5148360" y="5202360"/>
            <a:ext cx="112716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920" y="1836360"/>
            <a:ext cx="66247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Verdana"/>
              </a:rPr>
              <a:t>Development in facilitated interviews  Os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BC0667-2332-4051-A6FB-3B470165FF0A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0C9B8810-A64F-4481-9172-1D1EE88A7F5C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Diagram 6" descr=""/>
          <p:cNvPicPr/>
          <p:nvPr/>
        </p:nvPicPr>
        <p:blipFill>
          <a:blip r:embed="rId1"/>
          <a:stretch/>
        </p:blipFill>
        <p:spPr>
          <a:xfrm>
            <a:off x="1133640" y="2395440"/>
            <a:ext cx="66690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21840" y="2382840"/>
            <a:ext cx="576252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hildren's House since 2009 in Os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  <a:ea typeface="Arial"/>
              </a:rPr>
              <a:t>Since October 2015 – a leg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  <a:ea typeface="Arial"/>
              </a:rPr>
              <a:t>Until 2009 – at the Police S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00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09E978-6DC3-47EA-902A-86ABC45DA5E0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A38F3B6D-7265-47B1-BB44-F222D46E9917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C:\Users\hbw003\AppData\Local\Microsoft\Windows\INetCache\Content.Outlook\4I566JNJ\IMG_2982.JPG"/>
          <p:cNvPicPr/>
          <p:nvPr/>
        </p:nvPicPr>
        <p:blipFill>
          <a:blip r:embed="rId1"/>
          <a:stretch/>
        </p:blipFill>
        <p:spPr>
          <a:xfrm>
            <a:off x="260280" y="4538520"/>
            <a:ext cx="2492280" cy="1656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C:\Users\hbw003\AppData\Local\Microsoft\Windows\INetCache\Content.Outlook\K11UZYAD\IMG_6472.JPG"/>
          <p:cNvPicPr/>
          <p:nvPr/>
        </p:nvPicPr>
        <p:blipFill>
          <a:blip r:embed="rId2"/>
          <a:stretch/>
        </p:blipFill>
        <p:spPr>
          <a:xfrm>
            <a:off x="3203640" y="4538520"/>
            <a:ext cx="22636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  <a:ea typeface="Arial"/>
              </a:rPr>
              <a:t>Facilitated interviews 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previous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Verdana"/>
              </a:rPr>
              <a:t>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4FBF14-1CC7-413A-B407-87FB1E65DC88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C350D2B0-3EA1-4D1A-80F2-990F48F20416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IMG_1916"/>
          <p:cNvPicPr/>
          <p:nvPr/>
        </p:nvPicPr>
        <p:blipFill>
          <a:blip r:embed="rId1"/>
          <a:stretch/>
        </p:blipFill>
        <p:spPr>
          <a:xfrm>
            <a:off x="611280" y="4699080"/>
            <a:ext cx="2232000" cy="1665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IMG_1903"/>
          <p:cNvPicPr/>
          <p:nvPr/>
        </p:nvPicPr>
        <p:blipFill>
          <a:blip r:embed="rId2"/>
          <a:stretch/>
        </p:blipFill>
        <p:spPr>
          <a:xfrm>
            <a:off x="3419640" y="4699080"/>
            <a:ext cx="2232000" cy="1665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IMG_1897"/>
          <p:cNvPicPr/>
          <p:nvPr/>
        </p:nvPicPr>
        <p:blipFill>
          <a:blip r:embed="rId3"/>
          <a:stretch/>
        </p:blipFill>
        <p:spPr>
          <a:xfrm>
            <a:off x="6804000" y="1798560"/>
            <a:ext cx="1685880" cy="24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9" name="Picture 2" descr="IMG_1902"/>
          <p:cNvPicPr/>
          <p:nvPr/>
        </p:nvPicPr>
        <p:blipFill>
          <a:blip r:embed="rId4"/>
          <a:stretch/>
        </p:blipFill>
        <p:spPr>
          <a:xfrm>
            <a:off x="6227640" y="4645080"/>
            <a:ext cx="2262240" cy="1689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C:\Users\hbw003\AppData\Local\Microsoft\Windows\INetCache\Content.Outlook\4I566JNJ\IMG_2981.JPG"/>
          <p:cNvPicPr/>
          <p:nvPr/>
        </p:nvPicPr>
        <p:blipFill>
          <a:blip r:embed="rId5"/>
          <a:stretch/>
        </p:blipFill>
        <p:spPr>
          <a:xfrm>
            <a:off x="2987640" y="2654280"/>
            <a:ext cx="2833560" cy="1569960"/>
          </a:xfrm>
          <a:prstGeom prst="rect">
            <a:avLst/>
          </a:prstGeom>
          <a:ln w="0">
            <a:noFill/>
          </a:ln>
        </p:spPr>
      </p:pic>
      <p:sp>
        <p:nvSpPr>
          <p:cNvPr id="321" name="Rektangel 2"/>
          <p:cNvSpPr/>
          <p:nvPr/>
        </p:nvSpPr>
        <p:spPr>
          <a:xfrm>
            <a:off x="611280" y="2852640"/>
            <a:ext cx="1871640" cy="339840"/>
          </a:xfrm>
          <a:prstGeom prst="rect">
            <a:avLst/>
          </a:prstGeom>
          <a:solidFill>
            <a:srgbClr val="c9dbf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  <a:ea typeface="Arial"/>
              </a:rPr>
              <a:t>Polic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Facilitated Interviews  </a:t>
            </a:r>
            <a:r>
              <a:rPr b="1" lang="nb-NO" sz="18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current </a:t>
            </a:r>
            <a:r>
              <a:rPr b="1" lang="nb-NO" sz="1800" spc="-1" strike="noStrike">
                <a:solidFill>
                  <a:srgbClr val="c00000"/>
                </a:solidFill>
                <a:latin typeface="Arial"/>
              </a:rPr>
              <a:t>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C3BF91-EBA9-4C86-8C8C-9DB4C2E82825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AF099629-C327-4F24-8DA1-40DD1EFE6B6E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050" descr="IMG_1907"/>
          <p:cNvPicPr/>
          <p:nvPr/>
        </p:nvPicPr>
        <p:blipFill>
          <a:blip r:embed="rId1"/>
          <a:stretch/>
        </p:blipFill>
        <p:spPr>
          <a:xfrm>
            <a:off x="3693960" y="4529160"/>
            <a:ext cx="2219400" cy="1760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27" descr="IMG_1909"/>
          <p:cNvPicPr/>
          <p:nvPr/>
        </p:nvPicPr>
        <p:blipFill>
          <a:blip r:embed="rId2"/>
          <a:stretch/>
        </p:blipFill>
        <p:spPr>
          <a:xfrm>
            <a:off x="3708360" y="2708280"/>
            <a:ext cx="2076480" cy="1552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G_1914"/>
          <p:cNvPicPr/>
          <p:nvPr/>
        </p:nvPicPr>
        <p:blipFill>
          <a:blip r:embed="rId3"/>
          <a:stretch/>
        </p:blipFill>
        <p:spPr>
          <a:xfrm>
            <a:off x="298440" y="4149720"/>
            <a:ext cx="2824200" cy="2106720"/>
          </a:xfrm>
          <a:prstGeom prst="rect">
            <a:avLst/>
          </a:prstGeom>
          <a:ln w="0">
            <a:noFill/>
          </a:ln>
        </p:spPr>
      </p:pic>
      <p:sp>
        <p:nvSpPr>
          <p:cNvPr id="327" name="Rektangel 2"/>
          <p:cNvSpPr/>
          <p:nvPr/>
        </p:nvSpPr>
        <p:spPr>
          <a:xfrm>
            <a:off x="684360" y="2689200"/>
            <a:ext cx="1800000" cy="358920"/>
          </a:xfrm>
          <a:prstGeom prst="rect">
            <a:avLst/>
          </a:prstGeom>
          <a:solidFill>
            <a:srgbClr val="c9dbf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  <a:ea typeface="Arial"/>
              </a:rPr>
              <a:t>Children's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IMG_1905"/>
          <p:cNvPicPr/>
          <p:nvPr/>
        </p:nvPicPr>
        <p:blipFill>
          <a:blip r:embed="rId4"/>
          <a:stretch/>
        </p:blipFill>
        <p:spPr>
          <a:xfrm>
            <a:off x="6446880" y="4581360"/>
            <a:ext cx="2303280" cy="1719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C:\Users\hbw003\AppData\Local\Microsoft\Windows\INetCache\Content.Outlook\K11UZYAD\IMG_6477.JPG"/>
          <p:cNvPicPr/>
          <p:nvPr/>
        </p:nvPicPr>
        <p:blipFill>
          <a:blip r:embed="rId5"/>
          <a:stretch/>
        </p:blipFill>
        <p:spPr>
          <a:xfrm>
            <a:off x="6156360" y="2205000"/>
            <a:ext cx="27874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w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21840" y="2382480"/>
            <a:ext cx="849780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Only certified personnel (approx. 20 in Osl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660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A senior police officer with special education from the Police Academ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evel 1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Primary education- D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ges 6 – 16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One-year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4 weeks at the Police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Practical work under guid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evel 2 - Sequential inte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ges 2/3 – 6 and mentally challeng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One-year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2 weeks at the Police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Practical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econdment at centres for mentally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660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660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F546CD-EF93-4192-B7E1-A8A034EB44C9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15CCA7E2-C2DC-4C04-BBC8-569A7A2635BF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http://international.univ-tours.fr/medias/photo/education-concept-alisa-tsoy-24830510-xl_1355480086144-jpg"/>
          <p:cNvPicPr/>
          <p:nvPr/>
        </p:nvPicPr>
        <p:blipFill>
          <a:blip r:embed="rId1"/>
          <a:stretch/>
        </p:blipFill>
        <p:spPr>
          <a:xfrm>
            <a:off x="6594480" y="4365720"/>
            <a:ext cx="1917720" cy="1839960"/>
          </a:xfrm>
          <a:prstGeom prst="rect">
            <a:avLst/>
          </a:prstGeom>
          <a:ln w="0">
            <a:noFill/>
          </a:ln>
        </p:spPr>
      </p:pic>
      <p:sp>
        <p:nvSpPr>
          <p:cNvPr id="334" name="Avrundet rektangel 1"/>
          <p:cNvSpPr/>
          <p:nvPr/>
        </p:nvSpPr>
        <p:spPr>
          <a:xfrm>
            <a:off x="6156360" y="1844640"/>
            <a:ext cx="2521080" cy="432000"/>
          </a:xfrm>
          <a:prstGeom prst="roundRect">
            <a:avLst>
              <a:gd name="adj" fmla="val 16667"/>
            </a:avLst>
          </a:prstGeom>
          <a:solidFill>
            <a:srgbClr val="c9d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Verdana"/>
              </a:rPr>
              <a:t>Police Academy: 3 years since 19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2200" y="1801440"/>
            <a:ext cx="8493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acilitated interviews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1" lang="nb-NO" sz="1800" spc="-1" strike="noStrike">
                <a:solidFill>
                  <a:srgbClr val="c00000"/>
                </a:solidFill>
                <a:latin typeface="Verdana"/>
                <a:ea typeface="Arial"/>
              </a:rPr>
              <a:t>lead 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1840" y="2382840"/>
            <a:ext cx="84978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2000" indent="-162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 police lawyer has the overall responsibility for the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Ensur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Substitute guard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Counsel for the agree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Defence law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at the interviewee will be accompanied by a suitable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at meetings according to the law is held (before and af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Decide who can particip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Log events related to the 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Make a decision about what to write down from the 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Full di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620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Minutes with some dialog (important extra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Decide whether or not to charge the suspect after the inter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6344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ssholder for lysbildenummer 3"/>
          <p:cNvSpPr/>
          <p:nvPr/>
        </p:nvSpPr>
        <p:spPr>
          <a:xfrm>
            <a:off x="7107120" y="6573960"/>
            <a:ext cx="1708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DEA84C-3181-4C87-BDB8-9CB621826764}" type="datetime">
              <a:rPr b="0" lang="nb-NO" sz="7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nb-NO" sz="700" spc="-1" strike="noStrike">
                <a:solidFill>
                  <a:srgbClr val="000000"/>
                </a:solidFill>
                <a:latin typeface="Arial"/>
              </a:rPr>
              <a:t> • Side </a:t>
            </a:r>
            <a:fld id="{255153F0-2E00-471F-B12B-9E030AA395BB}" type="slidenum">
              <a:rPr b="0" lang="nb-NO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9:42:44Z</dcterms:created>
  <dc:creator>Hanne</dc:creator>
  <dc:description/>
  <dc:language>en-US</dc:language>
  <cp:lastModifiedBy>Malin Morin</cp:lastModifiedBy>
  <cp:lastPrinted>2018-05-28T11:32:06Z</cp:lastPrinted>
  <dcterms:modified xsi:type="dcterms:W3CDTF">2018-05-29T07:59:20Z</dcterms:modified>
  <cp:revision>256</cp:revision>
  <dc:subject/>
  <dc:title>Interviewing children   January 2014</dc:title>
</cp:coreProperties>
</file>