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29.wmf" ContentType="image/x-wmf"/>
  <Override PartName="/ppt/media/image6.png" ContentType="image/png"/>
  <Override PartName="/ppt/media/image28.jpeg" ContentType="image/jpeg"/>
  <Override PartName="/ppt/media/image7.jpeg" ContentType="image/jpeg"/>
  <Override PartName="/ppt/media/image31.wmf" ContentType="image/x-wmf"/>
  <Override PartName="/ppt/media/image5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4.png" ContentType="image/png"/>
  <Override PartName="/ppt/media/image33.jpeg" ContentType="image/jpeg"/>
  <Override PartName="/ppt/media/image30.wmf" ContentType="image/x-wmf"/>
  <Override PartName="/ppt/media/image27.png" ContentType="image/png"/>
  <Override PartName="/ppt/media/image13.jpeg" ContentType="image/jpeg"/>
  <Override PartName="/ppt/media/image11.jpeg" ContentType="image/jpeg"/>
  <Override PartName="/ppt/media/image32.jpeg" ContentType="image/jpeg"/>
  <Override PartName="/ppt/media/image3.jpeg" ContentType="image/jpeg"/>
  <Override PartName="/ppt/media/image24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26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67067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6670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6"/>
          </p:nvPr>
        </p:nvSpPr>
        <p:spPr>
          <a:xfrm>
            <a:off x="3778200" y="-360"/>
            <a:ext cx="2889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560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body"/>
          </p:nvPr>
        </p:nvSpPr>
        <p:spPr>
          <a:xfrm>
            <a:off x="666360" y="4689000"/>
            <a:ext cx="5335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7"/>
          </p:nvPr>
        </p:nvSpPr>
        <p:spPr>
          <a:xfrm>
            <a:off x="0" y="9377280"/>
            <a:ext cx="2889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 type="sldNum" idx="8"/>
          </p:nvPr>
        </p:nvSpPr>
        <p:spPr>
          <a:xfrm>
            <a:off x="3778200" y="9377280"/>
            <a:ext cx="2889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947D90B-D05B-49D9-9616-7DEEB9694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66360" y="4689000"/>
            <a:ext cx="5335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Slippe å møte gjerningspersoner (nære relasjon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Flere år før saken kommer opp – barnet husker ikke like god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ssholder for lysbildenummer 3"/>
          <p:cNvSpPr/>
          <p:nvPr/>
        </p:nvSpPr>
        <p:spPr>
          <a:xfrm>
            <a:off x="3778200" y="9377280"/>
            <a:ext cx="28893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6A5F9AC-1A60-4331-A719-DEEA2288D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66360" y="4689000"/>
            <a:ext cx="5335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views of children used to be lead by a judge – now police lawy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lice lawyer must lead the interview objective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way is a civil law country – criminal investigation and proceedings are not a parts process.  In 2013 the legislator decided to codify the prosecution authorities' duty to objectivity, new section 5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ssholder for lysbildenummer 3"/>
          <p:cNvSpPr/>
          <p:nvPr/>
        </p:nvSpPr>
        <p:spPr>
          <a:xfrm>
            <a:off x="3778200" y="9377280"/>
            <a:ext cx="28893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4CB3DBC-BEB6-45E3-9702-B99BA30F4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84978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21840" y="4435920"/>
            <a:ext cx="84978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184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640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95000" y="238284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68160" y="238284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21840" y="443592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95000" y="443592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68160" y="443592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BC39F-9B89-463C-9791-116BC1213C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EE49F-C90E-46EB-8842-8011039001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F0206-6C3D-4A45-9C87-76557CFD62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46A4A-1AA2-4437-9B3F-CAE78F8177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7CF90-6474-4E85-95E9-3916F617B1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22200" y="1801440"/>
            <a:ext cx="849312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06211-5D8F-4EAF-99B5-8DC75BAB83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2184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D8830-221A-46B8-ADB8-B4D10C65EB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40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D0523-6174-49F5-AD65-1229240D53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21840" y="4435920"/>
            <a:ext cx="84978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1ED05-BD90-4799-8974-AD8F59BD23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84978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1840" y="4435920"/>
            <a:ext cx="84978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004F6-D022-4B18-B330-F8A003960A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2184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40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EA66F-BE11-4D44-860C-C469A4F9B6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95000" y="238284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68160" y="238284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21840" y="443592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95000" y="443592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68160" y="443592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05DD2-C1D3-4766-8994-D20641D7F72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0603B-8BB7-4F97-9C80-449CCB91AC8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8817F-32B8-4B5C-9A6F-02A34F49849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76CC1-D7A2-4281-A5D0-8C705D8EB88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65584-D96B-43D2-8E4D-0424E67F46D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EE124-1B20-4593-AEDA-F34DEBD919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322200" y="1801440"/>
            <a:ext cx="849312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147D8-23B4-449A-9801-2064C4C09EE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2184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FE331-E47B-4643-A4F0-425722BE179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640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719E7-3BC0-41AB-A5DA-0FA67EF7592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21840" y="4435920"/>
            <a:ext cx="84978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527C8-8DD9-40DB-BA69-E2A13146689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84978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1840" y="4435920"/>
            <a:ext cx="84978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28612-01F5-4CC0-B1BE-6F9FE5F0EAE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2184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640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76698-0484-42F4-9404-19F8EBE6822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195000" y="238284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68160" y="238284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21840" y="443592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195000" y="443592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68160" y="443592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9953D-DF90-4BE1-80FD-5D0F220B361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322200" y="1801440"/>
            <a:ext cx="849312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2184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640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21840" y="4435920"/>
            <a:ext cx="84978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84978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840" y="4435920"/>
            <a:ext cx="84978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2184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640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195000" y="238284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68160" y="238284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321840" y="443592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195000" y="443592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68160" y="443592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1E94-F9BB-491E-A0E6-4F63083450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E39B-829A-44E1-B413-DD32D347979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FEA3-E724-4FC5-8192-91B47AE0DD2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CF5C-D54A-431F-875E-7E0EC1C97D4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2B18-35FE-4088-80E1-3DFF778AFED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322200" y="1801440"/>
            <a:ext cx="849312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6135-9F9C-41F3-90E7-9ACD10EBCE2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32184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AC4F-B974-414F-815E-4D9B92D00D0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640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D73C-3476-43B3-A13A-95BA37AA00D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21840" y="4435920"/>
            <a:ext cx="84978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440E-5ED5-49D4-89E5-DED6A8E0250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84978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1840" y="4435920"/>
            <a:ext cx="84978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9042-32BC-407F-923D-E1B74542F3A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2184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640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0C08-6845-454A-BDB1-5D4999F141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22200" y="1801440"/>
            <a:ext cx="849312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195000" y="238284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68160" y="238284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321840" y="443592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195000" y="443592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68160" y="443592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B754-FAB7-4F99-AFD7-737D5D7F54F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B179C-7058-4941-A55A-16BD29494EB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3B53D-783E-4013-B770-8FC564B9518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643C52-8359-4987-B22B-B17041E7367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B92A0-DE76-4CBE-8008-876CDD05864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F7A7F-AE6C-4AF5-AFE7-95BF28F4D38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322200" y="1801440"/>
            <a:ext cx="849312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741D1-6995-4F2A-9C0D-CC40D031BB7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2184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8B332-2B47-40D5-82FD-82205FE780D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640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1EE2C-0D20-4988-9125-F58FFEFDB2B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21840" y="4435920"/>
            <a:ext cx="84978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4A50A-89B2-4296-8201-E2E71EDFAA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2184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84978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1840" y="4435920"/>
            <a:ext cx="84978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59C21-1EEB-44C3-8AAC-4815E737AE1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2184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640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C1F38-143F-4A3E-8074-B85AF5E3A4D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95000" y="238284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68160" y="238284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321840" y="443592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95000" y="443592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68160" y="443592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B6ED3-B456-44ED-9C4B-3E2502C0DEF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A3808-D962-4B10-9C6F-E5C80E47FC3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ED220-5F42-4A86-8E44-70C3917233F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4FEE3-01C6-42AC-A93A-442CBFE1BEE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77F77-710B-4D65-A589-864345B9798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820B5-8F87-499B-BCB4-C5A1FB6BD7E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22200" y="1801440"/>
            <a:ext cx="849312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B72BA-D71B-446F-9460-0199891C2E3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2184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76B66-6E01-4E0B-A5EA-29DEC8A40F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640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640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E1B1A-E70A-4502-9E19-53301E2EAD7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21840" y="4435920"/>
            <a:ext cx="84978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05B61-C07F-4E50-949E-1B3EF4242A1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84978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1840" y="4435920"/>
            <a:ext cx="84978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1E372-9F13-474B-A116-11A3800FFCF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2184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640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85412-FA45-422F-98FA-CD2AD43775B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95000" y="238284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68160" y="238284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21840" y="443592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95000" y="443592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68160" y="443592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38420-29A2-40A1-B9AB-01F09E5850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21840" y="4435920"/>
            <a:ext cx="84978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1080" indent="-1616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30400" indent="-16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455840" indent="-155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455840" indent="-155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455840" indent="-155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1080" indent="-1616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30400" indent="-16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455840" indent="-155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455840" indent="-155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455840" indent="-155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7106760" y="6573600"/>
            <a:ext cx="1708200" cy="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nb-NO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FDA165D-8BEC-4472-B9A2-60D16D754D01}" type="datetime">
              <a:rPr b="0" lang="nb-NO" sz="7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r>
              <a:rPr b="0" lang="nb-NO" sz="700" spc="-1" strike="noStrike">
                <a:solidFill>
                  <a:srgbClr val="000000"/>
                </a:solidFill>
                <a:latin typeface="Times New Roman"/>
              </a:rPr>
              <a:t> • Side </a:t>
            </a:r>
            <a:fld id="{E3249F41-8396-4AFF-83B7-9948C77F5806}" type="slidenum">
              <a:rPr b="0" lang="nb-NO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16200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30400" indent="-16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455840" indent="-155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455840" indent="-155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455840" indent="-155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2"/>
          </p:nvPr>
        </p:nvSpPr>
        <p:spPr>
          <a:xfrm>
            <a:off x="7106760" y="6573600"/>
            <a:ext cx="1708200" cy="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nb-NO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4178934-DA33-4A6A-A65A-D56501F79C99}" type="datetime">
              <a:rPr b="0" lang="nb-NO" sz="7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r>
              <a:rPr b="0" lang="nb-NO" sz="700" spc="-1" strike="noStrike">
                <a:solidFill>
                  <a:srgbClr val="000000"/>
                </a:solidFill>
                <a:latin typeface="Times New Roman"/>
              </a:rPr>
              <a:t> • Side </a:t>
            </a:r>
            <a:fld id="{C8A66271-B71F-4532-AE36-E8F8DC7E68B3}" type="slidenum">
              <a:rPr b="0" lang="nb-NO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POD_powerpoint_RGB_forsidebilde"/>
          <p:cNvPicPr/>
          <p:nvPr/>
        </p:nvPicPr>
        <p:blipFill>
          <a:blip r:embed="rId2"/>
          <a:stretch/>
        </p:blipFill>
        <p:spPr>
          <a:xfrm>
            <a:off x="-1440" y="1457280"/>
            <a:ext cx="8820000" cy="4857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POD_powerpoint_RGB_STRIPE"/>
          <p:cNvPicPr/>
          <p:nvPr/>
        </p:nvPicPr>
        <p:blipFill>
          <a:blip r:embed="rId3"/>
          <a:stretch/>
        </p:blipFill>
        <p:spPr>
          <a:xfrm>
            <a:off x="-1440" y="1301760"/>
            <a:ext cx="8821440" cy="1587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3"/>
          <p:cNvSpPr/>
          <p:nvPr/>
        </p:nvSpPr>
        <p:spPr>
          <a:xfrm>
            <a:off x="6838920" y="1104840"/>
            <a:ext cx="1981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37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nb-NO" sz="700" spc="-1" strike="noStrike">
                <a:solidFill>
                  <a:srgbClr val="000000"/>
                </a:solidFill>
                <a:latin typeface="Arial"/>
              </a:rPr>
              <a:t>OSLO POLICE DISTRIC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5" descr="Pol_Oslo_logo_sort"/>
          <p:cNvPicPr/>
          <p:nvPr/>
        </p:nvPicPr>
        <p:blipFill>
          <a:blip r:embed="rId4"/>
          <a:stretch/>
        </p:blipFill>
        <p:spPr>
          <a:xfrm>
            <a:off x="320760" y="325440"/>
            <a:ext cx="2098440" cy="5634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1080" indent="-1616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30400" indent="-16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455840" indent="-155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455840" indent="-155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455840" indent="-155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8" descr="POD_powerpoint_RGB_STRIPE"/>
          <p:cNvPicPr/>
          <p:nvPr/>
        </p:nvPicPr>
        <p:blipFill>
          <a:blip r:embed="rId2"/>
          <a:stretch/>
        </p:blipFill>
        <p:spPr>
          <a:xfrm>
            <a:off x="-1440" y="1301760"/>
            <a:ext cx="8821440" cy="1587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9"/>
          <p:cNvSpPr/>
          <p:nvPr/>
        </p:nvSpPr>
        <p:spPr>
          <a:xfrm>
            <a:off x="6838920" y="1104840"/>
            <a:ext cx="1981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37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nb-NO" sz="700" spc="-1" strike="noStrike">
                <a:solidFill>
                  <a:srgbClr val="000000"/>
                </a:solidFill>
                <a:latin typeface="Arial"/>
              </a:rPr>
              <a:t>OSLO POLICE DISTRIC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0"/>
          <p:cNvSpPr/>
          <p:nvPr/>
        </p:nvSpPr>
        <p:spPr>
          <a:xfrm>
            <a:off x="322200" y="6534000"/>
            <a:ext cx="84931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7" descr="Pol_Oslo_logo_sort"/>
          <p:cNvPicPr/>
          <p:nvPr/>
        </p:nvPicPr>
        <p:blipFill>
          <a:blip r:embed="rId3"/>
          <a:stretch/>
        </p:blipFill>
        <p:spPr>
          <a:xfrm>
            <a:off x="320760" y="325440"/>
            <a:ext cx="2098440" cy="5634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1080" indent="-1616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30400" indent="-16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455840" indent="-155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455840" indent="-155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455840" indent="-155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3"/>
          </p:nvPr>
        </p:nvSpPr>
        <p:spPr>
          <a:xfrm>
            <a:off x="7106760" y="6573600"/>
            <a:ext cx="1708200" cy="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nb-NO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5FBE966-B8A3-4B6D-9D81-C19545A4EE5D}" type="datetime">
              <a:rPr b="0" lang="nb-NO" sz="7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r>
              <a:rPr b="0" lang="nb-NO" sz="700" spc="-1" strike="noStrike">
                <a:solidFill>
                  <a:srgbClr val="000000"/>
                </a:solidFill>
                <a:latin typeface="Times New Roman"/>
              </a:rPr>
              <a:t> • Side </a:t>
            </a:r>
            <a:fld id="{433E9DD8-644A-424E-A462-4602C0DEF42B}" type="slidenum">
              <a:rPr b="0" lang="nb-NO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8" descr="POD_powerpoint_RGB_STRIPE"/>
          <p:cNvPicPr/>
          <p:nvPr/>
        </p:nvPicPr>
        <p:blipFill>
          <a:blip r:embed="rId2"/>
          <a:stretch/>
        </p:blipFill>
        <p:spPr>
          <a:xfrm>
            <a:off x="-1440" y="1301760"/>
            <a:ext cx="8821440" cy="1587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9"/>
          <p:cNvSpPr/>
          <p:nvPr/>
        </p:nvSpPr>
        <p:spPr>
          <a:xfrm>
            <a:off x="6838920" y="1104840"/>
            <a:ext cx="1981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37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nb-NO" sz="700" spc="-1" strike="noStrike">
                <a:solidFill>
                  <a:srgbClr val="000000"/>
                </a:solidFill>
                <a:latin typeface="Arial"/>
              </a:rPr>
              <a:t>OSLO POLICE DISTRIC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0"/>
          <p:cNvSpPr/>
          <p:nvPr/>
        </p:nvSpPr>
        <p:spPr>
          <a:xfrm>
            <a:off x="322200" y="6534000"/>
            <a:ext cx="84931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Pol_Oslo_logo_sort"/>
          <p:cNvPicPr/>
          <p:nvPr/>
        </p:nvPicPr>
        <p:blipFill>
          <a:blip r:embed="rId3"/>
          <a:stretch/>
        </p:blipFill>
        <p:spPr>
          <a:xfrm>
            <a:off x="320760" y="325440"/>
            <a:ext cx="2098440" cy="5634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1080" indent="-1616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30400" indent="-16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455840" indent="-155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455840" indent="-155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455840" indent="-155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4"/>
          </p:nvPr>
        </p:nvSpPr>
        <p:spPr>
          <a:xfrm>
            <a:off x="7106760" y="6573600"/>
            <a:ext cx="1708200" cy="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nb-NO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A9E7159-B343-4556-8721-99BB9D053C8D}" type="datetime">
              <a:rPr b="0" lang="nb-NO" sz="7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r>
              <a:rPr b="0" lang="nb-NO" sz="700" spc="-1" strike="noStrike">
                <a:solidFill>
                  <a:srgbClr val="000000"/>
                </a:solidFill>
                <a:latin typeface="Times New Roman"/>
              </a:rPr>
              <a:t> • Side </a:t>
            </a:r>
            <a:fld id="{9D99188C-A530-4BFC-8002-9CC547F1056E}" type="slidenum">
              <a:rPr b="0" lang="nb-NO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8" descr="POD_powerpoint_RGB_STRIPE"/>
          <p:cNvPicPr/>
          <p:nvPr/>
        </p:nvPicPr>
        <p:blipFill>
          <a:blip r:embed="rId2"/>
          <a:stretch/>
        </p:blipFill>
        <p:spPr>
          <a:xfrm>
            <a:off x="-1440" y="1301760"/>
            <a:ext cx="8821440" cy="15876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9"/>
          <p:cNvSpPr/>
          <p:nvPr/>
        </p:nvSpPr>
        <p:spPr>
          <a:xfrm>
            <a:off x="6838920" y="1104840"/>
            <a:ext cx="1981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37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nb-NO" sz="700" spc="-1" strike="noStrike">
                <a:solidFill>
                  <a:srgbClr val="000000"/>
                </a:solidFill>
                <a:latin typeface="Arial"/>
              </a:rPr>
              <a:t>OSLO POLICE DISTRIC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322200" y="6534000"/>
            <a:ext cx="84931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7" descr="Pol_Oslo_logo_sort"/>
          <p:cNvPicPr/>
          <p:nvPr/>
        </p:nvPicPr>
        <p:blipFill>
          <a:blip r:embed="rId3"/>
          <a:stretch/>
        </p:blipFill>
        <p:spPr>
          <a:xfrm>
            <a:off x="320760" y="325440"/>
            <a:ext cx="2098440" cy="5634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16200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30400" indent="-16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455840" indent="-155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455840" indent="-155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455840" indent="-155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5"/>
          </p:nvPr>
        </p:nvSpPr>
        <p:spPr>
          <a:xfrm>
            <a:off x="7106760" y="6573600"/>
            <a:ext cx="1708200" cy="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nb-NO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0489C31-F07E-4FB7-B320-A03A214AB22E}" type="datetime">
              <a:rPr b="0" lang="nb-NO" sz="7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r>
              <a:rPr b="0" lang="nb-NO" sz="700" spc="-1" strike="noStrike">
                <a:solidFill>
                  <a:srgbClr val="000000"/>
                </a:solidFill>
                <a:latin typeface="Times New Roman"/>
              </a:rPr>
              <a:t> • Side </a:t>
            </a:r>
            <a:fld id="{DC14A11F-6EE0-46E6-A44D-55CE2A225FF2}" type="slidenum">
              <a:rPr b="0" lang="nb-NO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H_trimmed.wmv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63800" y="2352240"/>
            <a:ext cx="3973320" cy="9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24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200"/>
            </a:br>
            <a:r>
              <a:rPr b="1" lang="nb-NO" sz="2200" spc="-1" strike="noStrike">
                <a:solidFill>
                  <a:srgbClr val="ffffff"/>
                </a:solidFill>
                <a:latin typeface="Verdana"/>
                <a:ea typeface="Arial"/>
              </a:rPr>
              <a:t>Interviewing Children</a:t>
            </a:r>
            <a:br>
              <a:rPr sz="2200"/>
            </a:br>
            <a:r>
              <a:rPr b="1" i="1" lang="nb-NO" sz="1600" spc="-1" strike="noStrike">
                <a:solidFill>
                  <a:srgbClr val="ffffff"/>
                </a:solidFill>
                <a:latin typeface="Verdana"/>
                <a:ea typeface="Arial"/>
              </a:rPr>
              <a:t>Facilitated interview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663800" y="4404960"/>
            <a:ext cx="38019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16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16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nb-NO" sz="1200" spc="-1" strike="noStrike">
                <a:solidFill>
                  <a:srgbClr val="ffffff"/>
                </a:solidFill>
                <a:latin typeface="Verdana"/>
                <a:ea typeface="Arial"/>
              </a:rPr>
              <a:t>Police Superintendent Malin Morin Nymoen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16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nb-NO" sz="1200" spc="-1" strike="noStrike">
                <a:solidFill>
                  <a:srgbClr val="ffffff"/>
                </a:solidFill>
                <a:latin typeface="Verdana"/>
                <a:ea typeface="Arial"/>
              </a:rPr>
              <a:t>Sex Crime Squad/Oslo/No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Verdana"/>
              </a:rPr>
              <a:t>Facilitated interviews</a:t>
            </a:r>
            <a:r>
              <a:rPr b="1" lang="nb-NO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nb-NO" sz="2000" spc="-1" strike="noStrike">
                <a:solidFill>
                  <a:srgbClr val="000000"/>
                </a:solidFill>
                <a:latin typeface="Verdana"/>
                <a:ea typeface="Arial"/>
              </a:rPr>
              <a:t>- </a:t>
            </a:r>
            <a:r>
              <a:rPr b="1" lang="en-US" sz="1800" spc="-1" strike="noStrike">
                <a:solidFill>
                  <a:srgbClr val="c00000"/>
                </a:solidFill>
                <a:latin typeface="Verdana"/>
                <a:ea typeface="Verdana"/>
              </a:rPr>
              <a:t>the police lawyer's main responsibilities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: </a:t>
            </a:r>
            <a:br>
              <a:rPr sz="2400"/>
            </a:br>
            <a:br>
              <a:rPr sz="2400"/>
            </a:b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21840" y="2924280"/>
            <a:ext cx="8497800" cy="33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Secure the evidence value of the inter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Make sure that the suspect’s rights are sec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Protect the witness and make sure that they are given their rights according to the la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ssholder for lysbildenummer 3"/>
          <p:cNvSpPr/>
          <p:nvPr/>
        </p:nvSpPr>
        <p:spPr>
          <a:xfrm>
            <a:off x="7107120" y="6573960"/>
            <a:ext cx="1708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19F418A-3075-4AAC-9576-E5594C29C4D4}" type="datetime">
              <a:rPr b="0" lang="nb-NO" sz="7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nb-NO" sz="700" spc="-1" strike="noStrike">
                <a:solidFill>
                  <a:srgbClr val="000000"/>
                </a:solidFill>
                <a:latin typeface="Arial"/>
              </a:rPr>
              <a:t> • Side </a:t>
            </a:r>
            <a:fld id="{1920CFBB-5148-4F1B-AE6E-2303726E3BDF}" type="slidenum">
              <a:rPr b="0" lang="nb-NO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Verdana"/>
                <a:ea typeface="Arial"/>
              </a:rPr>
              <a:t>Interviewing children </a:t>
            </a:r>
            <a:r>
              <a:rPr b="1" lang="nb-NO" sz="2000" spc="-1" strike="noStrike">
                <a:solidFill>
                  <a:srgbClr val="000000"/>
                </a:solidFill>
                <a:latin typeface="Verdana"/>
                <a:ea typeface="Arial"/>
              </a:rPr>
              <a:t>– </a:t>
            </a:r>
            <a:r>
              <a:rPr b="1" lang="nb-NO" sz="1800" spc="-1" strike="noStrike">
                <a:solidFill>
                  <a:srgbClr val="c00000"/>
                </a:solidFill>
                <a:latin typeface="Verdana"/>
                <a:ea typeface="Arial"/>
              </a:rPr>
              <a:t>defense lawy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2000" indent="-16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A defence lawyer is normally not present during the first inter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  <a:ea typeface="Verdana"/>
              </a:rPr>
              <a:t>Makes it easier to report to the pol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  <a:ea typeface="Verdana"/>
              </a:rPr>
              <a:t>Protect the suspect from groundless suspici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  <a:ea typeface="Verdana"/>
              </a:rPr>
              <a:t>To protect the offended in cases where he/she is living together with the suspe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1620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  <a:ea typeface="Verdana"/>
              </a:rPr>
              <a:t>Domestic viole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1620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  <a:ea typeface="Verdana"/>
              </a:rPr>
              <a:t>Ince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If someone is charged after the first intervie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  <a:ea typeface="Verdana"/>
              </a:rPr>
              <a:t>The person who is charged will immediately be inform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  <a:ea typeface="Verdana"/>
              </a:rPr>
              <a:t>Get to see the first intervie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  <a:ea typeface="Verdana"/>
              </a:rPr>
              <a:t>Can ask for a second interview (within 1 week) where the defence lawyer will be pres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1620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  <a:ea typeface="Verdana"/>
              </a:rPr>
              <a:t>Supplementary interview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1620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  <a:ea typeface="Verdana"/>
              </a:rPr>
              <a:t>contradi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1620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  <a:ea typeface="Verdana"/>
              </a:rPr>
              <a:t>Questions must be supplied as part of the reque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ssholder for lysbildenummer 3"/>
          <p:cNvSpPr/>
          <p:nvPr/>
        </p:nvSpPr>
        <p:spPr>
          <a:xfrm>
            <a:off x="7107120" y="6573960"/>
            <a:ext cx="1708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0084E57-BBEF-45C2-9E1F-BDB7FF1FA627}" type="datetime">
              <a:rPr b="0" lang="nb-NO" sz="7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nb-NO" sz="700" spc="-1" strike="noStrike">
                <a:solidFill>
                  <a:srgbClr val="000000"/>
                </a:solidFill>
                <a:latin typeface="Arial"/>
              </a:rPr>
              <a:t> • Side </a:t>
            </a:r>
            <a:fld id="{0D4ADE81-427F-49F6-BF0E-6AF302812781}" type="slidenum">
              <a:rPr b="0" lang="nb-NO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Verdana"/>
              </a:rPr>
              <a:t>Facilitated interviews</a:t>
            </a:r>
            <a:r>
              <a:rPr b="1" lang="nb-NO" sz="2400" spc="-1" strike="noStrike">
                <a:solidFill>
                  <a:srgbClr val="000000"/>
                </a:solidFill>
                <a:latin typeface="Verdana"/>
                <a:ea typeface="Arial"/>
              </a:rPr>
              <a:t>– </a:t>
            </a:r>
            <a:r>
              <a:rPr b="1" lang="nb-NO" sz="1800" spc="-1" strike="noStrike">
                <a:solidFill>
                  <a:srgbClr val="c00000"/>
                </a:solidFill>
                <a:latin typeface="Verdana"/>
                <a:ea typeface="Arial"/>
              </a:rPr>
              <a:t>participa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21840" y="2382840"/>
            <a:ext cx="475452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19280" indent="-39528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Police law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Counsel for the agreed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Substitute guard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Intervie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Investig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Advisor/psychologist from Children’s 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Technic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Representatives from Child Welfare Services (if necessar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(Defence lawy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ssholder for lysbildenummer 3"/>
          <p:cNvSpPr/>
          <p:nvPr/>
        </p:nvSpPr>
        <p:spPr>
          <a:xfrm>
            <a:off x="7107120" y="6573960"/>
            <a:ext cx="170820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A4BA7C5-2869-489A-B758-62DF4639890D}" type="datetime">
              <a:rPr b="0" lang="nb-NO" sz="700" spc="-1" strike="noStrike">
                <a:solidFill>
                  <a:srgbClr val="000000"/>
                </a:solidFill>
                <a:latin typeface="Verdana"/>
                <a:ea typeface="Arial"/>
              </a:rPr>
              <a:t>31.07.26</a:t>
            </a:fld>
            <a:r>
              <a:rPr b="0" lang="nb-NO" sz="700" spc="-1" strike="noStrike">
                <a:solidFill>
                  <a:srgbClr val="000000"/>
                </a:solidFill>
                <a:latin typeface="Verdana"/>
                <a:ea typeface="Arial"/>
              </a:rPr>
              <a:t> • Side </a:t>
            </a:r>
            <a:fld id="{B1D3164E-6D12-400A-BEE2-F1AF38F74003}" type="slidenum">
              <a:rPr b="0" lang="nb-NO" sz="7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2" descr="http://mikebrandlyauctioneer.files.wordpress.com/2010/02/lotsa-people.jpg"/>
          <p:cNvPicPr/>
          <p:nvPr/>
        </p:nvPicPr>
        <p:blipFill>
          <a:blip r:embed="rId1"/>
          <a:stretch/>
        </p:blipFill>
        <p:spPr>
          <a:xfrm>
            <a:off x="6703920" y="2421000"/>
            <a:ext cx="1619280" cy="10792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8" descr="C:\Users\hbw003\AppData\Local\Microsoft\Windows\INetCache\Content.Outlook\JAXWIJN9\barnehuset-1 (3).jpg"/>
          <p:cNvPicPr/>
          <p:nvPr/>
        </p:nvPicPr>
        <p:blipFill>
          <a:blip r:embed="rId2"/>
          <a:stretch/>
        </p:blipFill>
        <p:spPr>
          <a:xfrm>
            <a:off x="5724360" y="4262400"/>
            <a:ext cx="298476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Verdana"/>
              </a:rPr>
              <a:t>Facilitated interviews</a:t>
            </a:r>
            <a:r>
              <a:rPr b="1" lang="nb-NO" sz="2400" spc="-1" strike="noStrike">
                <a:solidFill>
                  <a:srgbClr val="000000"/>
                </a:solidFill>
                <a:latin typeface="Verdana"/>
                <a:ea typeface="Arial"/>
              </a:rPr>
              <a:t> - </a:t>
            </a:r>
            <a:r>
              <a:rPr b="1" lang="nb-NO" sz="1800" spc="-1" strike="noStrike">
                <a:solidFill>
                  <a:srgbClr val="c00000"/>
                </a:solidFill>
                <a:latin typeface="Verdana"/>
                <a:ea typeface="Arial"/>
              </a:rPr>
              <a:t>prepart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21840" y="2382840"/>
            <a:ext cx="741852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87440" indent="-1634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The interviewer calls the person who will accompany the interviewee a few days prior to the int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162000">
              <a:lnSpc>
                <a:spcPct val="120000"/>
              </a:lnSpc>
              <a:spcBef>
                <a:spcPts val="275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Verdana"/>
              </a:rPr>
              <a:t>Give information about the interview, the Children's House, the interviewer, agenda, et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16200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Verdana"/>
              </a:rPr>
              <a:t>Get some information about the interviewee - interests, cognitive development, language skills etc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162000">
              <a:lnSpc>
                <a:spcPct val="120000"/>
              </a:lnSpc>
              <a:spcBef>
                <a:spcPts val="1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The child is informed in the evening, the day before the interview is h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162000">
              <a:lnSpc>
                <a:spcPct val="120000"/>
              </a:lnSpc>
              <a:spcBef>
                <a:spcPts val="275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Verdana"/>
              </a:rPr>
              <a:t>Informed by the person who will accompany the interviewee (who is instructed by the interviewer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162000">
              <a:lnSpc>
                <a:spcPct val="120000"/>
              </a:lnSpc>
              <a:spcBef>
                <a:spcPts val="275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  <a:ea typeface="Verdana"/>
              </a:rPr>
              <a:t>You are going to the Children's House tomorrow, to talk with Malin about what happened…”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162000">
              <a:lnSpc>
                <a:spcPct val="120000"/>
              </a:lnSpc>
              <a:spcBef>
                <a:spcPts val="1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162000">
              <a:lnSpc>
                <a:spcPct val="120000"/>
              </a:lnSpc>
              <a:spcBef>
                <a:spcPts val="1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The interviewer does not meet or talk to the interviewee prior to the int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Just before the interview starts, we have a meeting with the other participants (to discuss the c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The interviewer meets the interviewee and the accompanying person, and show them the facilities and how it works before the interview st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2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ssholder for lysbildenummer 3"/>
          <p:cNvSpPr/>
          <p:nvPr/>
        </p:nvSpPr>
        <p:spPr>
          <a:xfrm>
            <a:off x="7107120" y="6573960"/>
            <a:ext cx="170820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C9EAFF3-EFDF-4632-B35A-BE92AD2ED3E3}" type="datetime">
              <a:rPr b="0" lang="nb-NO" sz="700" spc="-1" strike="noStrike">
                <a:solidFill>
                  <a:srgbClr val="000000"/>
                </a:solidFill>
                <a:latin typeface="Verdana"/>
                <a:ea typeface="Arial"/>
              </a:rPr>
              <a:t>31.07.26</a:t>
            </a:fld>
            <a:r>
              <a:rPr b="0" lang="nb-NO" sz="700" spc="-1" strike="noStrike">
                <a:solidFill>
                  <a:srgbClr val="000000"/>
                </a:solidFill>
                <a:latin typeface="Verdana"/>
                <a:ea typeface="Arial"/>
              </a:rPr>
              <a:t> • Side </a:t>
            </a:r>
            <a:fld id="{614EA77C-7E49-4C02-B1B3-DC2FC1909409}" type="slidenum">
              <a:rPr b="0" lang="nb-NO" sz="7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Verdana"/>
              </a:rPr>
              <a:t>Facilitated interviews </a:t>
            </a:r>
            <a:r>
              <a:rPr b="1" lang="nb-NO" sz="2400" spc="-1" strike="noStrike">
                <a:solidFill>
                  <a:srgbClr val="000000"/>
                </a:solidFill>
                <a:latin typeface="Verdana"/>
                <a:ea typeface="Arial"/>
              </a:rPr>
              <a:t>–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formal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23640" y="2349000"/>
            <a:ext cx="8497800" cy="39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62000" indent="-1620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The interviewee should be informed who is present</a:t>
            </a:r>
            <a:r>
              <a:rPr b="0" i="1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and that the interview is record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62000" indent="-1620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The interviewee is informed about the case and why we would like to do an int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62000" indent="-1620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The interviewee is encouraged to tell the tru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62000" indent="-1620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62000" indent="-1620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62000" indent="-1620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62000" indent="-1620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62000" indent="-1620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62000" indent="-1620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ake them serious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rol over the sit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mit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ssholder for lysbildenummer 3"/>
          <p:cNvSpPr/>
          <p:nvPr/>
        </p:nvSpPr>
        <p:spPr>
          <a:xfrm>
            <a:off x="7107120" y="6573960"/>
            <a:ext cx="1708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5000C46-9228-4F3A-B905-152EE45F0C67}" type="datetime">
              <a:rPr b="0" lang="nb-NO" sz="7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nb-NO" sz="700" spc="-1" strike="noStrike">
                <a:solidFill>
                  <a:srgbClr val="000000"/>
                </a:solidFill>
                <a:latin typeface="Arial"/>
              </a:rPr>
              <a:t> • Side </a:t>
            </a:r>
            <a:fld id="{5D71DAAC-F42F-4CD7-8153-D6FB0C108AB3}" type="slidenum">
              <a:rPr b="0" lang="nb-NO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" descr="IMG_1905"/>
          <p:cNvPicPr/>
          <p:nvPr/>
        </p:nvPicPr>
        <p:blipFill>
          <a:blip r:embed="rId1"/>
          <a:stretch/>
        </p:blipFill>
        <p:spPr>
          <a:xfrm>
            <a:off x="6300720" y="4508640"/>
            <a:ext cx="2370240" cy="1771560"/>
          </a:xfrm>
          <a:prstGeom prst="rect">
            <a:avLst/>
          </a:prstGeom>
          <a:ln w="0">
            <a:noFill/>
          </a:ln>
        </p:spPr>
      </p:pic>
      <p:sp>
        <p:nvSpPr>
          <p:cNvPr id="356" name="Avrundet rektangel 1"/>
          <p:cNvSpPr/>
          <p:nvPr/>
        </p:nvSpPr>
        <p:spPr>
          <a:xfrm>
            <a:off x="395280" y="3716280"/>
            <a:ext cx="4897440" cy="792360"/>
          </a:xfrm>
          <a:prstGeom prst="roundRect">
            <a:avLst>
              <a:gd name="adj" fmla="val 16667"/>
            </a:avLst>
          </a:prstGeom>
          <a:solidFill>
            <a:srgbClr val="c9db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620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The information provided depends on the age and capabilities of the interview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Verdana"/>
              </a:rPr>
              <a:t>Facilitated interviews </a:t>
            </a:r>
            <a:r>
              <a:rPr b="1" lang="nb-NO" sz="2400" spc="-1" strike="noStrike">
                <a:solidFill>
                  <a:srgbClr val="000000"/>
                </a:solidFill>
                <a:latin typeface="Verdana"/>
                <a:ea typeface="Arial"/>
              </a:rPr>
              <a:t>– </a:t>
            </a:r>
            <a:r>
              <a:rPr b="1" lang="nb-NO" sz="1400" spc="-1" strike="noStrike">
                <a:solidFill>
                  <a:srgbClr val="c00000"/>
                </a:solidFill>
                <a:latin typeface="Verdana"/>
                <a:ea typeface="Arial"/>
              </a:rPr>
              <a:t>Dialogical Communication Method</a:t>
            </a:r>
            <a:r>
              <a:rPr b="1" lang="nb-NO" sz="3200" spc="-1" strike="noStrike">
                <a:solidFill>
                  <a:srgbClr val="c00000"/>
                </a:solidFill>
                <a:latin typeface="Verdana"/>
                <a:ea typeface="Arial"/>
              </a:rPr>
              <a:t> </a:t>
            </a:r>
            <a:r>
              <a:rPr b="1" lang="nb-NO" sz="1800" spc="-1" strike="noStrike">
                <a:solidFill>
                  <a:srgbClr val="c00000"/>
                </a:solidFill>
                <a:latin typeface="Verdana"/>
                <a:ea typeface="Arial"/>
              </a:rPr>
              <a:t>(DC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21840" y="2382840"/>
            <a:ext cx="741852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19280" indent="-3952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The interview comprises 7 p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Prepa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Building trust ( Waiting ro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Formalities ( Interrogation ro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Case/theme int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Narrative interview- free expla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Probing – theme by theme, and confrontations if necess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Fin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ssholder for lysbildenummer 3"/>
          <p:cNvSpPr/>
          <p:nvPr/>
        </p:nvSpPr>
        <p:spPr>
          <a:xfrm>
            <a:off x="7107120" y="6573960"/>
            <a:ext cx="170820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83351C8-CE79-40B8-A196-2BEEACC80339}" type="datetime">
              <a:rPr b="0" lang="nb-NO" sz="700" spc="-1" strike="noStrike">
                <a:solidFill>
                  <a:srgbClr val="000000"/>
                </a:solidFill>
                <a:latin typeface="Verdana"/>
                <a:ea typeface="Arial"/>
              </a:rPr>
              <a:t>31.07.26</a:t>
            </a:fld>
            <a:r>
              <a:rPr b="0" lang="nb-NO" sz="700" spc="-1" strike="noStrike">
                <a:solidFill>
                  <a:srgbClr val="000000"/>
                </a:solidFill>
                <a:latin typeface="Verdana"/>
                <a:ea typeface="Arial"/>
              </a:rPr>
              <a:t> • Side </a:t>
            </a:r>
            <a:fld id="{FA69D6EF-34C8-4E84-9C48-79D40C0D2B60}" type="slidenum">
              <a:rPr b="0" lang="nb-NO" sz="7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Verdana"/>
              </a:rPr>
              <a:t>Facilitated interviews </a:t>
            </a:r>
            <a:r>
              <a:rPr b="1" lang="nb-NO" sz="2400" spc="-1" strike="noStrike">
                <a:solidFill>
                  <a:srgbClr val="000000"/>
                </a:solidFill>
                <a:latin typeface="Verdana"/>
                <a:ea typeface="Arial"/>
              </a:rPr>
              <a:t>– </a:t>
            </a:r>
            <a:r>
              <a:rPr b="1" lang="nb-NO" sz="1800" spc="-1" strike="noStrike">
                <a:solidFill>
                  <a:srgbClr val="c00000"/>
                </a:solidFill>
                <a:latin typeface="Verdana"/>
                <a:ea typeface="Arial"/>
              </a:rPr>
              <a:t>key el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22200" y="2382840"/>
            <a:ext cx="485928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19280" indent="-3952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Establish tru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Open ended ques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Pat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ctive list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Follow up on the child’s stat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More detailed questions when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If necessary we confront the child in the end (if we don’t ask, we won’t know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ssholder for lysbildenummer 3"/>
          <p:cNvSpPr/>
          <p:nvPr/>
        </p:nvSpPr>
        <p:spPr>
          <a:xfrm>
            <a:off x="7107120" y="6573960"/>
            <a:ext cx="170820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A6CB06-798A-47B3-B5FC-D32315CFE22F}" type="datetime">
              <a:rPr b="0" lang="nb-NO" sz="700" spc="-1" strike="noStrike">
                <a:solidFill>
                  <a:srgbClr val="000000"/>
                </a:solidFill>
                <a:latin typeface="Verdana"/>
                <a:ea typeface="Arial"/>
              </a:rPr>
              <a:t>31.07.26</a:t>
            </a:fld>
            <a:r>
              <a:rPr b="0" lang="nb-NO" sz="700" spc="-1" strike="noStrike">
                <a:solidFill>
                  <a:srgbClr val="000000"/>
                </a:solidFill>
                <a:latin typeface="Verdana"/>
                <a:ea typeface="Arial"/>
              </a:rPr>
              <a:t> • Side </a:t>
            </a:r>
            <a:fld id="{D2782A15-67D5-44B4-8E36-404F0C3B901D}" type="slidenum">
              <a:rPr b="0" lang="nb-NO" sz="7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1030" descr="H:\Dokumenter\foo.png"/>
          <p:cNvPicPr/>
          <p:nvPr/>
        </p:nvPicPr>
        <p:blipFill>
          <a:blip r:embed="rId1"/>
          <a:stretch/>
        </p:blipFill>
        <p:spPr>
          <a:xfrm>
            <a:off x="5580000" y="3141720"/>
            <a:ext cx="314028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22200" y="1801800"/>
            <a:ext cx="8493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Verdana"/>
                <a:ea typeface="Verdana"/>
              </a:rPr>
              <a:t>Facilitated interviews- </a:t>
            </a:r>
            <a:r>
              <a:rPr b="1" lang="nb-NO" sz="1800" spc="-1" strike="noStrike">
                <a:solidFill>
                  <a:srgbClr val="c00000"/>
                </a:solidFill>
                <a:latin typeface="Verdana"/>
                <a:ea typeface="Verdana"/>
              </a:rPr>
              <a:t>Promotional commun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21840" y="2565000"/>
            <a:ext cx="8497800" cy="37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Direct, clearly, informativ, inter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The childs language, reduce the balance of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Significant inform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Be couri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Opend ending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Meta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Tell, describe, expl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Expand the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ssholder for lysbildenummer 3"/>
          <p:cNvSpPr/>
          <p:nvPr/>
        </p:nvSpPr>
        <p:spPr>
          <a:xfrm>
            <a:off x="7107120" y="6573960"/>
            <a:ext cx="1708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D04F147-D94A-4BB8-9200-A215A893CA1E}" type="datetime">
              <a:rPr b="0" lang="nb-NO" sz="7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nb-NO" sz="700" spc="-1" strike="noStrike">
                <a:solidFill>
                  <a:srgbClr val="000000"/>
                </a:solidFill>
                <a:latin typeface="Arial"/>
              </a:rPr>
              <a:t> • Side </a:t>
            </a:r>
            <a:fld id="{72E50B44-115E-4E85-BE37-CF5CECF65BE9}" type="slidenum">
              <a:rPr b="0" lang="nb-NO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Verdana"/>
                <a:ea typeface="Verdana"/>
              </a:rPr>
              <a:t>Facilitated interviews- </a:t>
            </a:r>
            <a:r>
              <a:rPr b="1" lang="nb-NO" sz="1800" spc="-1" strike="noStrike">
                <a:solidFill>
                  <a:srgbClr val="c00000"/>
                </a:solidFill>
                <a:latin typeface="Verdana"/>
                <a:ea typeface="Verdana"/>
              </a:rPr>
              <a:t>Inhibitory commun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Closed ended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Leading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Several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Adult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Questioning style/ interrog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Overhe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Sudden change of t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Doubt/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ssholder for lysbildenummer 3"/>
          <p:cNvSpPr/>
          <p:nvPr/>
        </p:nvSpPr>
        <p:spPr>
          <a:xfrm>
            <a:off x="7107120" y="6573960"/>
            <a:ext cx="1708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BF01FF6-DD71-41C1-ADB6-C111CE597E9B}" type="datetime">
              <a:rPr b="0" lang="nb-NO" sz="7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nb-NO" sz="700" spc="-1" strike="noStrike">
                <a:solidFill>
                  <a:srgbClr val="000000"/>
                </a:solidFill>
                <a:latin typeface="Arial"/>
              </a:rPr>
              <a:t> • Side </a:t>
            </a:r>
            <a:fld id="{49ECAFAB-95E1-4887-A20C-68D5634E2427}" type="slidenum">
              <a:rPr b="0" lang="nb-NO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Verdana"/>
                <a:ea typeface="Arial"/>
              </a:rPr>
              <a:t>Interviewing children - </a:t>
            </a:r>
            <a:r>
              <a:rPr b="1" lang="nb-NO" sz="1800" spc="-1" strike="noStrike">
                <a:solidFill>
                  <a:srgbClr val="c00000"/>
                </a:solidFill>
                <a:latin typeface="Verdana"/>
                <a:ea typeface="Arial"/>
              </a:rPr>
              <a:t>Age 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1"/>
          <a:stretch/>
        </p:blipFill>
        <p:spPr>
          <a:xfrm>
            <a:off x="152280" y="2666880"/>
            <a:ext cx="876312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Verdana"/>
                <a:ea typeface="Arial"/>
              </a:rPr>
              <a:t>Interviewing childr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ssholder for lysbildenummer 3"/>
          <p:cNvSpPr/>
          <p:nvPr/>
        </p:nvSpPr>
        <p:spPr>
          <a:xfrm>
            <a:off x="7107120" y="6573960"/>
            <a:ext cx="1708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0D22223-E8CF-488C-9DE4-FED5BED378FE}" type="datetime">
              <a:rPr b="0" lang="nb-NO" sz="7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nb-NO" sz="700" spc="-1" strike="noStrike">
                <a:solidFill>
                  <a:srgbClr val="000000"/>
                </a:solidFill>
                <a:latin typeface="Arial"/>
              </a:rPr>
              <a:t> • Side </a:t>
            </a:r>
            <a:fld id="{C83E6AB2-6346-438B-85FB-50E70E8E176D}" type="slidenum">
              <a:rPr b="0" lang="nb-NO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2" descr="\\Client\E$\Sitter i stol.png"/>
          <p:cNvPicPr/>
          <p:nvPr/>
        </p:nvPicPr>
        <p:blipFill>
          <a:blip r:embed="rId1"/>
          <a:stretch/>
        </p:blipFill>
        <p:spPr>
          <a:xfrm>
            <a:off x="324000" y="3046320"/>
            <a:ext cx="4103640" cy="33386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M:\2 Krim\21 Volds- og seksual\210 Felles\Dommeravhør\Tilrettelagte avhør\Bilder\TA sitter på gulvet.png"/>
          <p:cNvPicPr/>
          <p:nvPr/>
        </p:nvPicPr>
        <p:blipFill>
          <a:blip r:embed="rId2"/>
          <a:stretch/>
        </p:blipFill>
        <p:spPr>
          <a:xfrm>
            <a:off x="5580000" y="4025880"/>
            <a:ext cx="2737080" cy="23464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\\Client\E$\Sitter på liten stol.png"/>
          <p:cNvPicPr/>
          <p:nvPr/>
        </p:nvPicPr>
        <p:blipFill>
          <a:blip r:embed="rId3"/>
          <a:stretch/>
        </p:blipFill>
        <p:spPr>
          <a:xfrm>
            <a:off x="5867280" y="1844640"/>
            <a:ext cx="226224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Verdana"/>
                <a:ea typeface="Arial"/>
              </a:rPr>
              <a:t>Interviewing children – </a:t>
            </a:r>
            <a:r>
              <a:rPr b="1" lang="nb-NO" sz="1800" spc="-1" strike="noStrike">
                <a:solidFill>
                  <a:srgbClr val="c00000"/>
                </a:solidFill>
                <a:latin typeface="Verdana"/>
                <a:ea typeface="Arial"/>
              </a:rPr>
              <a:t>video recording played in cou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purpos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void children having to meet in court, unless they want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comply with the principle of hearing both sides, the defence can request a complementary interview prior to the t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 cou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recording from the interview is normally played prior to the defendant's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judge and the parties has the full transcript from the interview, and the prosecutor can confront the defendant using details from the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ssholder for lysbildenummer 3"/>
          <p:cNvSpPr/>
          <p:nvPr/>
        </p:nvSpPr>
        <p:spPr>
          <a:xfrm>
            <a:off x="7107120" y="6573960"/>
            <a:ext cx="1708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2CD64C8-BE2F-45CF-8B47-F00F1B45F054}" type="datetime">
              <a:rPr b="0" lang="nb-NO" sz="7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nb-NO" sz="700" spc="-1" strike="noStrike">
                <a:solidFill>
                  <a:srgbClr val="000000"/>
                </a:solidFill>
                <a:latin typeface="Arial"/>
              </a:rPr>
              <a:t> • Side </a:t>
            </a:r>
            <a:fld id="{A91DA510-0227-4C83-9189-FA610BDAE68F}" type="slidenum">
              <a:rPr b="0" lang="nb-NO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Verdana"/>
                <a:ea typeface="Arial"/>
              </a:rPr>
              <a:t>Interviewing children </a:t>
            </a:r>
            <a:r>
              <a:rPr b="1" lang="nb-NO" sz="2000" spc="-1" strike="noStrike">
                <a:solidFill>
                  <a:srgbClr val="000000"/>
                </a:solidFill>
                <a:latin typeface="Verdana"/>
                <a:ea typeface="Arial"/>
              </a:rPr>
              <a:t>- </a:t>
            </a:r>
            <a:r>
              <a:rPr b="1" lang="nb-NO" sz="1800" spc="-1" strike="noStrike">
                <a:solidFill>
                  <a:srgbClr val="c00000"/>
                </a:solidFill>
                <a:latin typeface="Verdana"/>
                <a:ea typeface="Arial"/>
              </a:rPr>
              <a:t>what to exp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1"/>
          <a:stretch/>
        </p:blipFill>
        <p:spPr>
          <a:xfrm>
            <a:off x="4788000" y="2781360"/>
            <a:ext cx="3006720" cy="334944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6"/>
          <p:cNvSpPr/>
          <p:nvPr/>
        </p:nvSpPr>
        <p:spPr>
          <a:xfrm>
            <a:off x="533520" y="36576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Everything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Verdana"/>
                <a:ea typeface="Arial"/>
              </a:rPr>
              <a:t>Interviewing children </a:t>
            </a:r>
            <a:r>
              <a:rPr b="1" lang="nb-NO" sz="2000" spc="-1" strike="noStrike">
                <a:solidFill>
                  <a:srgbClr val="000000"/>
                </a:solidFill>
                <a:latin typeface="Verdana"/>
                <a:ea typeface="Arial"/>
              </a:rPr>
              <a:t>- </a:t>
            </a:r>
            <a:r>
              <a:rPr b="1" lang="nb-NO" sz="1800" spc="-1" strike="noStrike">
                <a:solidFill>
                  <a:srgbClr val="c00000"/>
                </a:solidFill>
                <a:latin typeface="Verdana"/>
                <a:ea typeface="Arial"/>
              </a:rPr>
              <a:t>what to exp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1030" descr="\\krima01a\hbw003\PRIVAT\Fagdag dommeravhør\H_Illustrasjon_utsnit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2997360"/>
            <a:ext cx="2916360" cy="314460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4"/>
          <p:cNvSpPr/>
          <p:nvPr/>
        </p:nvSpPr>
        <p:spPr>
          <a:xfrm>
            <a:off x="533520" y="37339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or noth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Verdana"/>
                <a:ea typeface="Arial"/>
              </a:rPr>
              <a:t>Drawing by 8-year old interview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76320" y="2209680"/>
            <a:ext cx="8194680" cy="38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Verdana"/>
                <a:ea typeface="Arial"/>
              </a:rPr>
              <a:t>Drawing by 8-year old interviewee(2</a:t>
            </a:r>
            <a:r>
              <a:rPr b="1" lang="nb-NO" sz="22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1252440" cy="40384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"/>
          <p:cNvPicPr/>
          <p:nvPr/>
        </p:nvPicPr>
        <p:blipFill>
          <a:blip r:embed="rId2"/>
          <a:stretch/>
        </p:blipFill>
        <p:spPr>
          <a:xfrm>
            <a:off x="3505320" y="2362320"/>
            <a:ext cx="2425680" cy="3902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Verdana"/>
                <a:ea typeface="Arial"/>
              </a:rPr>
              <a:t>Interviewing children </a:t>
            </a:r>
            <a:r>
              <a:rPr b="1" lang="nb-NO" sz="2000" spc="-1" strike="noStrike">
                <a:solidFill>
                  <a:srgbClr val="000000"/>
                </a:solidFill>
                <a:latin typeface="Verdana"/>
                <a:ea typeface="Arial"/>
              </a:rPr>
              <a:t>- </a:t>
            </a:r>
            <a:r>
              <a:rPr b="1" lang="nb-NO" sz="1800" spc="-1" strike="noStrike">
                <a:solidFill>
                  <a:srgbClr val="c00000"/>
                </a:solidFill>
                <a:latin typeface="Verdana"/>
                <a:ea typeface="Arial"/>
              </a:rPr>
              <a:t>credi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304920" y="2438280"/>
            <a:ext cx="83818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The 8-year old who made these drawings was found credible by the court, and the offender was convic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A key objective for recent developments in Norway has been to improve the children’s credibil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vrundet rektangel 1"/>
          <p:cNvSpPr/>
          <p:nvPr/>
        </p:nvSpPr>
        <p:spPr>
          <a:xfrm>
            <a:off x="684360" y="4484520"/>
            <a:ext cx="6912000" cy="1752840"/>
          </a:xfrm>
          <a:prstGeom prst="roundRect">
            <a:avLst>
              <a:gd name="adj" fmla="val 16667"/>
            </a:avLst>
          </a:prstGeom>
          <a:solidFill>
            <a:srgbClr val="c9db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Verdana"/>
                <a:ea typeface="Verdana"/>
              </a:rPr>
              <a:t>Recent developments includ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Improved education of interview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Improved facilities for interviews and medical examin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Continuous improvements to the method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New law - October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920" y="1752480"/>
            <a:ext cx="84931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Verdana"/>
                <a:ea typeface="Arial"/>
              </a:rPr>
              <a:t>Interviewing children – </a:t>
            </a:r>
            <a:r>
              <a:rPr b="1" lang="nb-NO" sz="1600" spc="-1" strike="noStrike">
                <a:solidFill>
                  <a:srgbClr val="c00000"/>
                </a:solidFill>
                <a:latin typeface="Verdana"/>
                <a:ea typeface="Arial"/>
              </a:rPr>
              <a:t>cooperation with Children's House</a:t>
            </a:r>
            <a:br>
              <a:rPr sz="1800"/>
            </a:br>
            <a:br>
              <a:rPr sz="1800"/>
            </a:br>
            <a:br>
              <a:rPr sz="1800"/>
            </a:b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250920" y="2565360"/>
            <a:ext cx="7200720" cy="34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2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Better prepared and more focused intervi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82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The interviewer can focus at the interview - not the practica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82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Short term: the child is cared for by professionals after the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inter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3040" indent="-163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  <a:tab algn="l" pos="5934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More detailed stat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73040" indent="-163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  <a:tab algn="l" pos="5934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Strengthens the child's credi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82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Long term: the child’s welfare is taken care of by profession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82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Sharing of knowle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3040" indent="-163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  <a:tab algn="l" pos="5934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Ex. worksh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82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Creating a positive experience for the interviewe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5" descr="M:\2 Krim\21 Volds- og seksual\210 Felles\Dommeravhør\Bilder\Hjerte.jpg"/>
          <p:cNvPicPr/>
          <p:nvPr/>
        </p:nvPicPr>
        <p:blipFill>
          <a:blip r:embed="rId1"/>
          <a:stretch/>
        </p:blipFill>
        <p:spPr>
          <a:xfrm>
            <a:off x="6804000" y="4968720"/>
            <a:ext cx="188280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4" descr="hanne.jpg"/>
          <p:cNvPicPr/>
          <p:nvPr/>
        </p:nvPicPr>
        <p:blipFill>
          <a:blip r:embed="rId1"/>
          <a:stretch/>
        </p:blipFill>
        <p:spPr>
          <a:xfrm>
            <a:off x="0" y="258840"/>
            <a:ext cx="9144000" cy="6084720"/>
          </a:xfrm>
          <a:prstGeom prst="rect">
            <a:avLst/>
          </a:prstGeom>
          <a:ln w="0">
            <a:noFill/>
          </a:ln>
        </p:spPr>
      </p:pic>
      <p:sp>
        <p:nvSpPr>
          <p:cNvPr id="393" name="Slide Number Placeholder 3"/>
          <p:cNvSpPr/>
          <p:nvPr/>
        </p:nvSpPr>
        <p:spPr>
          <a:xfrm>
            <a:off x="7107120" y="6573960"/>
            <a:ext cx="170820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fld id="{8FD9DBCB-C799-4AA1-B846-9D1A37441CBD}" type="datetime">
              <a:rPr b="0" lang="nb-NO" sz="700" spc="-1" strike="noStrike">
                <a:solidFill>
                  <a:srgbClr val="000000"/>
                </a:solidFill>
                <a:latin typeface="Verdana"/>
                <a:ea typeface="Arial"/>
              </a:rPr>
              <a:t>31.07.26</a:t>
            </a:fld>
            <a:r>
              <a:rPr b="0" lang="nb-NO" sz="700" spc="-1" strike="noStrike">
                <a:solidFill>
                  <a:srgbClr val="000000"/>
                </a:solidFill>
                <a:latin typeface="Verdana"/>
                <a:ea typeface="Arial"/>
              </a:rPr>
              <a:t> • Side </a:t>
            </a:r>
            <a:fld id="{B7EFE637-5CEB-4C15-A8B1-05BBBC862F96}" type="slidenum">
              <a:rPr b="0" lang="nb-NO" sz="7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2236320" y="4591080"/>
            <a:ext cx="5272200" cy="1195200"/>
          </a:xfrm>
          <a:prstGeom prst="rect">
            <a:avLst/>
          </a:prstGeom>
          <a:noFill/>
          <a:ln w="0">
            <a:noFill/>
          </a:ln>
        </p:spPr>
        <p:txBody>
          <a:bodyPr lIns="162000" rIns="162000" tIns="162000" bIns="162000" anchor="t">
            <a:normAutofit/>
          </a:bodyPr>
          <a:p>
            <a:pPr marL="1620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b-NO" sz="2900" spc="-1" strike="noStrike">
                <a:solidFill>
                  <a:srgbClr val="ffffff"/>
                </a:solidFill>
                <a:latin typeface="Verdana"/>
                <a:ea typeface="Arial"/>
              </a:rPr>
              <a:t>     </a:t>
            </a:r>
            <a:r>
              <a:rPr b="0" lang="nb-NO" sz="2900" spc="-1" strike="noStrike">
                <a:solidFill>
                  <a:srgbClr val="c00000"/>
                </a:solidFill>
                <a:latin typeface="Verdana"/>
                <a:ea typeface="Arial"/>
              </a:rPr>
              <a:t>Care and Jus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Verdana"/>
              </a:rPr>
              <a:t>Facilitated interviews </a:t>
            </a:r>
            <a:r>
              <a:rPr b="1" lang="nb-NO" sz="2000" spc="-1" strike="noStrike">
                <a:solidFill>
                  <a:srgbClr val="000000"/>
                </a:solidFill>
                <a:latin typeface="Verdana"/>
                <a:ea typeface="Arial"/>
              </a:rPr>
              <a:t>– </a:t>
            </a:r>
            <a:r>
              <a:rPr b="1" lang="nb-NO" sz="1800" spc="-1" strike="noStrike">
                <a:solidFill>
                  <a:srgbClr val="c00000"/>
                </a:solidFill>
                <a:latin typeface="Verdana"/>
                <a:ea typeface="Arial"/>
              </a:rPr>
              <a:t>which ca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2000" indent="-162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Sex cri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Genital muti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Mur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Serious inj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Domestic viol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Traffi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Robb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Less serious inj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ssholder for lysbildenummer 3"/>
          <p:cNvSpPr/>
          <p:nvPr/>
        </p:nvSpPr>
        <p:spPr>
          <a:xfrm>
            <a:off x="7107120" y="6573960"/>
            <a:ext cx="1708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075BF19-EAA5-4CB1-A389-3D8D14BEF897}" type="datetime">
              <a:rPr b="0" lang="nb-NO" sz="7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nb-NO" sz="700" spc="-1" strike="noStrike">
                <a:solidFill>
                  <a:srgbClr val="000000"/>
                </a:solidFill>
                <a:latin typeface="Arial"/>
              </a:rPr>
              <a:t> • Side </a:t>
            </a:r>
            <a:fld id="{16084506-2432-45DF-94DD-7B40C4CF8365}" type="slidenum">
              <a:rPr b="0" lang="nb-NO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Bilde 1" descr=""/>
          <p:cNvPicPr/>
          <p:nvPr/>
        </p:nvPicPr>
        <p:blipFill>
          <a:blip r:embed="rId1"/>
          <a:stretch/>
        </p:blipFill>
        <p:spPr>
          <a:xfrm>
            <a:off x="6659640" y="4129200"/>
            <a:ext cx="2208240" cy="2241360"/>
          </a:xfrm>
          <a:prstGeom prst="rect">
            <a:avLst/>
          </a:prstGeom>
          <a:ln w="0">
            <a:noFill/>
          </a:ln>
        </p:spPr>
      </p:pic>
      <p:pic>
        <p:nvPicPr>
          <p:cNvPr id="305" name="Bilde 4" descr=""/>
          <p:cNvPicPr/>
          <p:nvPr/>
        </p:nvPicPr>
        <p:blipFill>
          <a:blip r:embed="rId2"/>
          <a:stretch/>
        </p:blipFill>
        <p:spPr>
          <a:xfrm>
            <a:off x="5148360" y="5202360"/>
            <a:ext cx="1127160" cy="11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920" y="1836360"/>
            <a:ext cx="66247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Verdana"/>
                <a:ea typeface="Verdana"/>
              </a:rPr>
              <a:t>Development in facilitated interviews  Osl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ssholder for lysbildenummer 3"/>
          <p:cNvSpPr/>
          <p:nvPr/>
        </p:nvSpPr>
        <p:spPr>
          <a:xfrm>
            <a:off x="7107120" y="6573960"/>
            <a:ext cx="1708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D1389AB-CE8D-4AA2-8FFC-EE13FC6A496E}" type="datetime">
              <a:rPr b="0" lang="nb-NO" sz="7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nb-NO" sz="700" spc="-1" strike="noStrike">
                <a:solidFill>
                  <a:srgbClr val="000000"/>
                </a:solidFill>
                <a:latin typeface="Arial"/>
              </a:rPr>
              <a:t> • Side </a:t>
            </a:r>
            <a:fld id="{534396B7-9993-4BDC-9E03-ACC73B1A0E2B}" type="slidenum">
              <a:rPr b="0" lang="nb-NO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Diagram 6" descr=""/>
          <p:cNvPicPr/>
          <p:nvPr/>
        </p:nvPicPr>
        <p:blipFill>
          <a:blip r:embed="rId1"/>
          <a:stretch/>
        </p:blipFill>
        <p:spPr>
          <a:xfrm>
            <a:off x="1133640" y="2395440"/>
            <a:ext cx="666900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b-NO" sz="2400" spc="-1" strike="noStrike">
                <a:solidFill>
                  <a:srgbClr val="000000"/>
                </a:solidFill>
                <a:latin typeface="Verdana"/>
              </a:rPr>
              <a:t>Facilitated interviews</a:t>
            </a:r>
            <a:r>
              <a:rPr b="1" lang="nb-NO" sz="24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1" lang="nb-NO" sz="1800" spc="-1" strike="noStrike">
                <a:solidFill>
                  <a:srgbClr val="c00000"/>
                </a:solidFill>
                <a:latin typeface="Verdana"/>
                <a:ea typeface="Arial"/>
              </a:rPr>
              <a:t>w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21840" y="2382840"/>
            <a:ext cx="576252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62000" indent="-16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Children's House since 2009 in Os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2000" indent="-16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  <a:ea typeface="Arial"/>
              </a:rPr>
              <a:t>Since October 2015 – a legal requi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2000" indent="-16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  <a:ea typeface="Arial"/>
              </a:rPr>
              <a:t>Until 2009 – at the Police S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2000" indent="-16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ssholder for lysbildenummer 3"/>
          <p:cNvSpPr/>
          <p:nvPr/>
        </p:nvSpPr>
        <p:spPr>
          <a:xfrm>
            <a:off x="7107120" y="6573960"/>
            <a:ext cx="1708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CA481CF-1299-4FB1-B3AC-307051904840}" type="datetime">
              <a:rPr b="0" lang="nb-NO" sz="7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nb-NO" sz="700" spc="-1" strike="noStrike">
                <a:solidFill>
                  <a:srgbClr val="000000"/>
                </a:solidFill>
                <a:latin typeface="Arial"/>
              </a:rPr>
              <a:t> • Side </a:t>
            </a:r>
            <a:fld id="{56EF7BF4-0F85-4A1C-92A2-F4E749EE2392}" type="slidenum">
              <a:rPr b="0" lang="nb-NO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7" descr="C:\Users\hbw003\AppData\Local\Microsoft\Windows\INetCache\Content.Outlook\4I566JNJ\IMG_2982.JPG"/>
          <p:cNvPicPr/>
          <p:nvPr/>
        </p:nvPicPr>
        <p:blipFill>
          <a:blip r:embed="rId1"/>
          <a:stretch/>
        </p:blipFill>
        <p:spPr>
          <a:xfrm>
            <a:off x="260280" y="4538520"/>
            <a:ext cx="2492280" cy="16560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0" descr="C:\Users\hbw003\AppData\Local\Microsoft\Windows\INetCache\Content.Outlook\K11UZYAD\IMG_6472.JPG"/>
          <p:cNvPicPr/>
          <p:nvPr/>
        </p:nvPicPr>
        <p:blipFill>
          <a:blip r:embed="rId2"/>
          <a:stretch/>
        </p:blipFill>
        <p:spPr>
          <a:xfrm>
            <a:off x="3203640" y="4538520"/>
            <a:ext cx="226368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Verdana"/>
                <a:ea typeface="Arial"/>
              </a:rPr>
              <a:t>Facilitated interviews – </a:t>
            </a:r>
            <a:r>
              <a:rPr b="1" lang="nb-NO" sz="1800" spc="-1" strike="noStrike">
                <a:solidFill>
                  <a:srgbClr val="c00000"/>
                </a:solidFill>
                <a:latin typeface="Verdana"/>
                <a:ea typeface="Arial"/>
              </a:rPr>
              <a:t>previous </a:t>
            </a:r>
            <a:r>
              <a:rPr b="1" lang="nb-NO" sz="1800" spc="-1" strike="noStrike">
                <a:solidFill>
                  <a:srgbClr val="c00000"/>
                </a:solidFill>
                <a:latin typeface="Verdana"/>
                <a:ea typeface="Verdana"/>
              </a:rPr>
              <a:t>lo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ssholder for lysbildenummer 3"/>
          <p:cNvSpPr/>
          <p:nvPr/>
        </p:nvSpPr>
        <p:spPr>
          <a:xfrm>
            <a:off x="7107120" y="6573960"/>
            <a:ext cx="1708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D2F098C-4D1C-4A10-B833-68202DC376C0}" type="datetime">
              <a:rPr b="0" lang="nb-NO" sz="7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nb-NO" sz="700" spc="-1" strike="noStrike">
                <a:solidFill>
                  <a:srgbClr val="000000"/>
                </a:solidFill>
                <a:latin typeface="Arial"/>
              </a:rPr>
              <a:t> • Side </a:t>
            </a:r>
            <a:fld id="{0A125C6A-CC1F-4BD0-8257-29E41686FA9D}" type="slidenum">
              <a:rPr b="0" lang="nb-NO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IMG_1916"/>
          <p:cNvPicPr/>
          <p:nvPr/>
        </p:nvPicPr>
        <p:blipFill>
          <a:blip r:embed="rId1"/>
          <a:stretch/>
        </p:blipFill>
        <p:spPr>
          <a:xfrm>
            <a:off x="611280" y="4699080"/>
            <a:ext cx="2232000" cy="16653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IMG_1903"/>
          <p:cNvPicPr/>
          <p:nvPr/>
        </p:nvPicPr>
        <p:blipFill>
          <a:blip r:embed="rId2"/>
          <a:stretch/>
        </p:blipFill>
        <p:spPr>
          <a:xfrm>
            <a:off x="3419640" y="4699080"/>
            <a:ext cx="2232000" cy="16653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IMG_1897"/>
          <p:cNvPicPr/>
          <p:nvPr/>
        </p:nvPicPr>
        <p:blipFill>
          <a:blip r:embed="rId3"/>
          <a:stretch/>
        </p:blipFill>
        <p:spPr>
          <a:xfrm>
            <a:off x="6804000" y="1798560"/>
            <a:ext cx="1685880" cy="244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19" name="Picture 2" descr="IMG_1902"/>
          <p:cNvPicPr/>
          <p:nvPr/>
        </p:nvPicPr>
        <p:blipFill>
          <a:blip r:embed="rId4"/>
          <a:stretch/>
        </p:blipFill>
        <p:spPr>
          <a:xfrm>
            <a:off x="6227640" y="4645080"/>
            <a:ext cx="2262240" cy="16891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C:\Users\hbw003\AppData\Local\Microsoft\Windows\INetCache\Content.Outlook\4I566JNJ\IMG_2981.JPG"/>
          <p:cNvPicPr/>
          <p:nvPr/>
        </p:nvPicPr>
        <p:blipFill>
          <a:blip r:embed="rId5"/>
          <a:stretch/>
        </p:blipFill>
        <p:spPr>
          <a:xfrm>
            <a:off x="2987640" y="2654280"/>
            <a:ext cx="2833560" cy="1569960"/>
          </a:xfrm>
          <a:prstGeom prst="rect">
            <a:avLst/>
          </a:prstGeom>
          <a:ln w="0">
            <a:noFill/>
          </a:ln>
        </p:spPr>
      </p:pic>
      <p:sp>
        <p:nvSpPr>
          <p:cNvPr id="321" name="Rektangel 2"/>
          <p:cNvSpPr/>
          <p:nvPr/>
        </p:nvSpPr>
        <p:spPr>
          <a:xfrm>
            <a:off x="611280" y="2852640"/>
            <a:ext cx="1871640" cy="339840"/>
          </a:xfrm>
          <a:prstGeom prst="rect">
            <a:avLst/>
          </a:prstGeom>
          <a:solidFill>
            <a:srgbClr val="c9dbf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  <a:ea typeface="Arial"/>
              </a:rPr>
              <a:t>Police 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Verdana"/>
                <a:ea typeface="Arial"/>
              </a:rPr>
              <a:t>Facilitated Interviews  </a:t>
            </a:r>
            <a:r>
              <a:rPr b="1" lang="nb-NO" sz="1800" spc="-1" strike="noStrike">
                <a:solidFill>
                  <a:srgbClr val="000000"/>
                </a:solidFill>
                <a:latin typeface="Verdana"/>
                <a:ea typeface="Arial"/>
              </a:rPr>
              <a:t>– </a:t>
            </a:r>
            <a:r>
              <a:rPr b="1" lang="nb-NO" sz="1800" spc="-1" strike="noStrike">
                <a:solidFill>
                  <a:srgbClr val="c00000"/>
                </a:solidFill>
                <a:latin typeface="Verdana"/>
                <a:ea typeface="Arial"/>
              </a:rPr>
              <a:t>current </a:t>
            </a:r>
            <a:r>
              <a:rPr b="1" lang="nb-NO" sz="1800" spc="-1" strike="noStrike">
                <a:solidFill>
                  <a:srgbClr val="c00000"/>
                </a:solidFill>
                <a:latin typeface="Arial"/>
              </a:rPr>
              <a:t>lo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ssholder for lysbildenummer 3"/>
          <p:cNvSpPr/>
          <p:nvPr/>
        </p:nvSpPr>
        <p:spPr>
          <a:xfrm>
            <a:off x="7107120" y="6573960"/>
            <a:ext cx="1708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0AD7783-C39B-4994-B32C-E875A5C6B8F8}" type="datetime">
              <a:rPr b="0" lang="nb-NO" sz="7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nb-NO" sz="700" spc="-1" strike="noStrike">
                <a:solidFill>
                  <a:srgbClr val="000000"/>
                </a:solidFill>
                <a:latin typeface="Arial"/>
              </a:rPr>
              <a:t> • Side </a:t>
            </a:r>
            <a:fld id="{0A488314-2BA2-4D84-A45C-66CDE8102684}" type="slidenum">
              <a:rPr b="0" lang="nb-NO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050" descr="IMG_1907"/>
          <p:cNvPicPr/>
          <p:nvPr/>
        </p:nvPicPr>
        <p:blipFill>
          <a:blip r:embed="rId1"/>
          <a:stretch/>
        </p:blipFill>
        <p:spPr>
          <a:xfrm>
            <a:off x="3693960" y="4529160"/>
            <a:ext cx="2219400" cy="17604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027" descr="IMG_1909"/>
          <p:cNvPicPr/>
          <p:nvPr/>
        </p:nvPicPr>
        <p:blipFill>
          <a:blip r:embed="rId2"/>
          <a:stretch/>
        </p:blipFill>
        <p:spPr>
          <a:xfrm>
            <a:off x="3708360" y="2708280"/>
            <a:ext cx="2076480" cy="1552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G_1914"/>
          <p:cNvPicPr/>
          <p:nvPr/>
        </p:nvPicPr>
        <p:blipFill>
          <a:blip r:embed="rId3"/>
          <a:stretch/>
        </p:blipFill>
        <p:spPr>
          <a:xfrm>
            <a:off x="298440" y="4149720"/>
            <a:ext cx="2824200" cy="2106720"/>
          </a:xfrm>
          <a:prstGeom prst="rect">
            <a:avLst/>
          </a:prstGeom>
          <a:ln w="0">
            <a:noFill/>
          </a:ln>
        </p:spPr>
      </p:pic>
      <p:sp>
        <p:nvSpPr>
          <p:cNvPr id="327" name="Rektangel 2"/>
          <p:cNvSpPr/>
          <p:nvPr/>
        </p:nvSpPr>
        <p:spPr>
          <a:xfrm>
            <a:off x="684360" y="2689200"/>
            <a:ext cx="1800000" cy="358920"/>
          </a:xfrm>
          <a:prstGeom prst="rect">
            <a:avLst/>
          </a:prstGeom>
          <a:solidFill>
            <a:srgbClr val="c9dbf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  <a:ea typeface="Arial"/>
              </a:rPr>
              <a:t>Children's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2" descr="IMG_1905"/>
          <p:cNvPicPr/>
          <p:nvPr/>
        </p:nvPicPr>
        <p:blipFill>
          <a:blip r:embed="rId4"/>
          <a:stretch/>
        </p:blipFill>
        <p:spPr>
          <a:xfrm>
            <a:off x="6446880" y="4581360"/>
            <a:ext cx="2303280" cy="17193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0" descr="C:\Users\hbw003\AppData\Local\Microsoft\Windows\INetCache\Content.Outlook\K11UZYAD\IMG_6477.JPG"/>
          <p:cNvPicPr/>
          <p:nvPr/>
        </p:nvPicPr>
        <p:blipFill>
          <a:blip r:embed="rId5"/>
          <a:stretch/>
        </p:blipFill>
        <p:spPr>
          <a:xfrm>
            <a:off x="6156360" y="2205000"/>
            <a:ext cx="278748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Verdana"/>
              </a:rPr>
              <a:t>Facilitated interviews</a:t>
            </a:r>
            <a:r>
              <a:rPr b="1" lang="nb-NO" sz="2400" spc="-1" strike="noStrike">
                <a:solidFill>
                  <a:srgbClr val="000000"/>
                </a:solidFill>
                <a:latin typeface="Verdana"/>
                <a:ea typeface="Arial"/>
              </a:rPr>
              <a:t>– </a:t>
            </a:r>
            <a:r>
              <a:rPr b="1" lang="nb-NO" sz="1800" spc="-1" strike="noStrike">
                <a:solidFill>
                  <a:srgbClr val="c00000"/>
                </a:solidFill>
                <a:latin typeface="Verdana"/>
                <a:ea typeface="Arial"/>
              </a:rPr>
              <a:t>wh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21840" y="2382480"/>
            <a:ext cx="849780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660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Only certified personnel (approx. 20 in Oslo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660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A senior police officer with special education from the Police Academ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3204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Level 1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Primary education- D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Ages 6 – 16/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One-year 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4 weeks at the Police Acade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Practical work under guida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Ex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3204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3204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Level 2 - Sequential inter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Ages 2/3 – 6 and mentally challenged individ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One-year 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2 weeks at the Police Acade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Practical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Secondment at centres for mentally challe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Ex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3204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3204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3204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660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660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ssholder for lysbildenummer 3"/>
          <p:cNvSpPr/>
          <p:nvPr/>
        </p:nvSpPr>
        <p:spPr>
          <a:xfrm>
            <a:off x="7107120" y="6573960"/>
            <a:ext cx="1708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2473FC9-F831-4FF3-AA26-AE46BD8542D2}" type="datetime">
              <a:rPr b="0" lang="nb-NO" sz="7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nb-NO" sz="700" spc="-1" strike="noStrike">
                <a:solidFill>
                  <a:srgbClr val="000000"/>
                </a:solidFill>
                <a:latin typeface="Arial"/>
              </a:rPr>
              <a:t> • Side </a:t>
            </a:r>
            <a:fld id="{8E9B903A-163F-4D3A-9F56-ACC569EC82A5}" type="slidenum">
              <a:rPr b="0" lang="nb-NO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2" descr="http://international.univ-tours.fr/medias/photo/education-concept-alisa-tsoy-24830510-xl_1355480086144-jpg"/>
          <p:cNvPicPr/>
          <p:nvPr/>
        </p:nvPicPr>
        <p:blipFill>
          <a:blip r:embed="rId1"/>
          <a:stretch/>
        </p:blipFill>
        <p:spPr>
          <a:xfrm>
            <a:off x="6594480" y="4365720"/>
            <a:ext cx="1917720" cy="1839960"/>
          </a:xfrm>
          <a:prstGeom prst="rect">
            <a:avLst/>
          </a:prstGeom>
          <a:ln w="0">
            <a:noFill/>
          </a:ln>
        </p:spPr>
      </p:pic>
      <p:sp>
        <p:nvSpPr>
          <p:cNvPr id="334" name="Avrundet rektangel 1"/>
          <p:cNvSpPr/>
          <p:nvPr/>
        </p:nvSpPr>
        <p:spPr>
          <a:xfrm>
            <a:off x="6156360" y="1844640"/>
            <a:ext cx="2521080" cy="432000"/>
          </a:xfrm>
          <a:prstGeom prst="roundRect">
            <a:avLst>
              <a:gd name="adj" fmla="val 16667"/>
            </a:avLst>
          </a:prstGeom>
          <a:solidFill>
            <a:srgbClr val="c9db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Verdana"/>
              </a:rPr>
              <a:t>Police Academy: 3 years since 199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Verdana"/>
              </a:rPr>
              <a:t>Facilitated interviews </a:t>
            </a:r>
            <a:r>
              <a:rPr b="1" lang="nb-NO" sz="2400" spc="-1" strike="noStrike">
                <a:solidFill>
                  <a:srgbClr val="000000"/>
                </a:solidFill>
                <a:latin typeface="Verdana"/>
                <a:ea typeface="Arial"/>
              </a:rPr>
              <a:t>– </a:t>
            </a:r>
            <a:r>
              <a:rPr b="1" lang="nb-NO" sz="1800" spc="-1" strike="noStrike">
                <a:solidFill>
                  <a:srgbClr val="c00000"/>
                </a:solidFill>
                <a:latin typeface="Verdana"/>
                <a:ea typeface="Arial"/>
              </a:rPr>
              <a:t>lead b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2000" indent="-162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A police lawyer has the overall responsibility for the int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Ensur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16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Substitute guardi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16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Counsel for the agreed par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16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Defence law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16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That the interviewee will be accompanied by a suitable per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16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That meetings according to the law is held (before and af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Decide who can particip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Log events related to the inter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Make a decision about what to write down from the inter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1620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Full dia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1620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Minutes with some dialog (important extrac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Decide whether or not to charge the suspect after the intervie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spcBef>
                <a:spcPts val="3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ssholder for lysbildenummer 3"/>
          <p:cNvSpPr/>
          <p:nvPr/>
        </p:nvSpPr>
        <p:spPr>
          <a:xfrm>
            <a:off x="7107120" y="6573960"/>
            <a:ext cx="1708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01DECE3-9AA5-440C-B0DA-C741E78B5EA3}" type="datetime">
              <a:rPr b="0" lang="nb-NO" sz="7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nb-NO" sz="700" spc="-1" strike="noStrike">
                <a:solidFill>
                  <a:srgbClr val="000000"/>
                </a:solidFill>
                <a:latin typeface="Arial"/>
              </a:rPr>
              <a:t> • Side </a:t>
            </a:r>
            <a:fld id="{596887B5-139A-4A6D-8371-2EC07D0541F2}" type="slidenum">
              <a:rPr b="0" lang="nb-NO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19:42:44Z</dcterms:created>
  <dc:creator>Hanne</dc:creator>
  <dc:description/>
  <dc:language>en-US</dc:language>
  <cp:lastModifiedBy>Malin Morin</cp:lastModifiedBy>
  <cp:lastPrinted>2018-05-28T11:32:06Z</cp:lastPrinted>
  <dcterms:modified xsi:type="dcterms:W3CDTF">2018-05-29T07:59:20Z</dcterms:modified>
  <cp:revision>256</cp:revision>
  <dc:subject/>
  <dc:title>Interviewing children   January 2014</dc:title>
</cp:coreProperties>
</file>